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FBBA-5520-44DC-BC3F-050FEFB2D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F243-7957-48C0-AB23-17F8D8B4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300F-DEBF-4DAC-A0C3-85A78CD16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0F05-7CA5-41CD-A0B1-415D42386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9161-5B38-4A90-A22B-8E5259BF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5FC2-00BE-4248-986B-C4D32967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0F6D-EC8D-49D1-B605-8431E776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092F-2438-4F4B-BB0E-77ED35C2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FD3C-961E-4C1A-AA62-839ED6EF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6734-60CB-4494-9BDC-C56314B3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3D35-CBBE-41D9-A282-0E6AB904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D67A-FDBC-4AD0-9901-42741987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44920"/>
            <a:ext cx="8351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erial written by name of teacher, count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www.onestopclil.com. © Copyright Macmillan Publishers Ltd 2008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9217-A56F-4335-89DE-67BD5F8EC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Who’s got what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5950080"/>
            <a:ext cx="81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6232680"/>
            <a:ext cx="8280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from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.  Do exercise 1 on the worksheet in groups: make sentences about the distribution of energy resources in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e you right? In groups, describe the information on the map using exercise 1 on the worksh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ShockwaveFlash1"/>
          <p:cNvGraphicFramePr/>
          <p:nvPr/>
        </p:nvGraphicFramePr>
        <p:xfrm>
          <a:off x="468360" y="476280"/>
          <a:ext cx="8207280" cy="56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76280"/>
                    <a:ext cx="8207280" cy="568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exercise 2 on the worksheet: number the different regions from 1 (least) to 6 (most) in the relevant colum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the energy resources of the different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cKeown</cp:lastModifiedBy>
  <dcterms:modified xsi:type="dcterms:W3CDTF">2008-09-12T13:45:38Z</dcterms:modified>
  <cp:revision>36</cp:revision>
  <dc:subject/>
  <dc:title>  </dc:title>
</cp:coreProperties>
</file>