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B8107-4BB8-4876-B9CF-FF286AD8F0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B071-8486-40C4-8CC2-4771D3A4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57572-07C9-4829-A275-AA66A4E4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B5DB-95A0-49F2-B79D-4CACC412E0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D00A1-DB88-4F48-84CB-3372EA93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6737C-EC31-49A8-AD17-6321DB77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E08BB-04E6-4AB8-92B1-05465551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834F-70E4-4BB1-BD30-C8EBE782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900A4-338D-4F9E-B24C-6E1AEF7D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C9C5-ADD5-49E7-9F0E-647641AA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30E46-D53A-4517-A4F7-A966498E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754F6-80C2-4CFF-B55B-51F1A315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962D-A2C6-44FA-A640-0FFBE5CDF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oil and gas were form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questions in exercise 1 on the worksheet: discuss them with your partne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answer the questions from exercise 1 on the worksheet. (Make note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your answers to exercise 1 in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26:19Z</dcterms:modified>
  <cp:revision>33</cp:revision>
  <dc:subject/>
  <dc:title>  </dc:title>
</cp:coreProperties>
</file>