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A2959-B955-4442-9052-65282184DD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86F2D-3F72-43B5-9C13-E13330D3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4B28-0422-4764-AEA3-B7A09B33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6A3EA-FEC6-4CF1-9E9E-1ECB83CD43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1AA79-0F15-40F7-B1B1-77896FF7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5F1A-1A76-40BA-B959-435A6DD9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9C7DB-959A-47A0-A3D6-641E3D70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90407-5956-45CC-8235-F7109D86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B58B-785E-4834-82EC-B5D7E502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1325-CC5D-4F39-B3BF-CFFEE760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0946E-ECC6-420C-A5D4-A1BB68B0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48043-93BC-476A-A0AD-43D5E53B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14C3-25B3-4E1B-9B0F-ED375E1F2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Nuclear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talk about the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if your ideas were 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write captions under the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20:39Z</dcterms:modified>
  <cp:revision>29</cp:revision>
  <dc:subject/>
  <dc:title>  </dc:title>
</cp:coreProperties>
</file>