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DE6DA-16FB-4126-BEEA-69066FFF7E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BE15E-9FD2-48F1-932E-01437C22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46B46-6971-45B0-896C-D3A19F53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759E4-3B3D-47C6-90B3-FCA3B6F109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E2057-CA08-4ABA-AAE8-051971E1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E74FB-B22C-4AF9-A49B-5BCA2CD4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38F3D-E96F-4AF9-A21E-BD6C6EB7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2F3AE-967B-44A8-92C9-42054E08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22186-26B0-4CBD-A09A-F672E273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35D3C-D633-4525-B2C9-A1730040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51BB0-2F56-4EA9-96A0-A6749EF8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D4587-DE73-4EDB-85FB-5DADD6FAE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4CD2-A343-451E-AE3E-C8318C2D3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Nuclear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talk about the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if your ideas were 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write captions under the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20:39Z</dcterms:modified>
  <cp:revision>29</cp:revision>
  <dc:subject/>
  <dc:title>  </dc:title>
</cp:coreProperties>
</file>