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A0DD-30F4-4073-B6A4-0082F67BC6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63447-7083-4589-8A36-FDF8B263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E1272-40E3-4834-81CF-B74AD302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FF62-C9EC-4DD4-BCDA-E0396BF587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6273-83DE-4AB7-93C9-DE9351C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4BC9-F978-4CC2-9F26-046B7586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984EA-3180-42ED-8546-5E0A607F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03540-CE10-4FDD-A2C4-E160BED6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780CD-0EFA-41B9-A6DD-BF0CDE713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CDD0-2F02-44F9-8C71-DADE17F5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62F38-CD57-444A-95C4-D0E11555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ADAEF-8697-4018-8A86-BD74CC8E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D1A1-A45D-421F-A68B-E5165C893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e greenhouse effec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se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fossil fuels conta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we burn fossil fue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 greenhouse gas do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more and more greenhouse gases go into the atmosp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s when the Earth gets war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ask and answer questions with your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answers to the questions in exercise 1 with your partner/group. Did you guess the answers correct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do exercise 2 on the worksheet: complete the ga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talk about the pictures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39:04Z</dcterms:modified>
  <cp:revision>30</cp:revision>
  <dc:subject/>
  <dc:title>  </dc:title>
</cp:coreProperties>
</file>