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F147-152A-4FEE-8799-A820A8E05C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6B527-E519-4D37-8A7F-939D1080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240C2-DA21-4D45-9416-94747710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8061F-D9E1-4D1A-AB9B-D743B718AD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8727A-0CD5-4005-A37F-FC75B0C0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A2FB0-79EA-4CBC-B099-D5187573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2FA78-28FD-473B-AEC5-BF77EECE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814CD-92EE-4AC7-BD29-E5DCCAB9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81741-22B2-4378-8E6F-B2A8DBB5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BF732-A200-4944-91E3-A6457E2E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3A55E-6E3B-4E6A-A203-8D3B450D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F982-7360-42B1-9FF8-0BD9FB10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5A9C-37A8-4B6D-A293-C114ABCA2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fossil fuels cont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we burn fossil fu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a greenhouse gas 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more and more greenhouse gases go into the atmosp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the Earth gets war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ask and answer questions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answers to the questions in exercise 1 with your partner/group. Did you guess the answers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do exercise 2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39:04Z</dcterms:modified>
  <cp:revision>30</cp:revision>
  <dc:subject/>
  <dc:title>  </dc:title>
</cp:coreProperties>
</file>