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4C65D-8B5B-4815-8E27-9A7C456BFE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465A4-74F7-4212-972C-F38808A0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A4414-90E6-4C7A-9CF1-5C12DCE0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05D7-5BE9-4FC5-9E1A-951C622059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A89F-2EB6-4B12-88C4-6BDCF8AC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C1A2C-BFA3-4AFA-8261-3C41ECA5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C0A5B-8B2C-444A-9F7F-8842D534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8387D-5508-4630-9DCB-248D7860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CE101-FD74-4A9C-93DD-4C059F96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2FE13-4ABB-46F9-969C-4F39D885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BF78-4E34-4AE8-9718-52F89FDC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A435-BD41-4649-B4A6-7E9FD8CA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5E44-99EE-41C6-92E4-8BE1B68C2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ind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in your group and discuss how wind power generates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complete the g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write the number of the correct sentence next to each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52:32Z</dcterms:modified>
  <cp:revision>27</cp:revision>
  <dc:subject/>
  <dc:title>  </dc:title>
</cp:coreProperties>
</file>