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A6A-834E-4654-9008-10DA055A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0A7D-1CFD-463C-807A-8838A0D3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4561-19D8-438D-A4CC-5D6A5BE7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1672-082A-4720-9932-F4CDA831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3911-6123-426F-AF08-9DA912CF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87E4-E967-4587-B6D8-51630D3C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9FCA-4695-48E0-80DD-8BA4B91C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64AC-545F-4F1A-AED1-57EE7E56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97C8-850F-45F5-A519-35E2C51D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307A-6492-40C9-8916-E9AC5FA1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25DC-9E12-432E-9E62-47187C60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F2E0-AF0C-4E1C-ADB1-7E4090F5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44920"/>
            <a:ext cx="835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1ED9-69F4-4F82-8669-1F8D0500C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59880" y="0"/>
            <a:ext cx="128412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99"/>
                </a:solidFill>
                <a:latin typeface="Arial"/>
              </a:rPr>
              <a:t>Ecosystems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8360" y="1484280"/>
            <a:ext cx="82072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world is composed of living and non-living things. The living part is called the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biosphe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living things depend upon each o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ecosyste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 small part of the biosphe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habit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where an organism li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environ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the sum of the living and non-living factors that surround an organ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4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Environmental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1413000"/>
            <a:ext cx="8218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nvironment has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bio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bio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2276640"/>
            <a:ext cx="32400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7081200">
            <a:off x="2310120" y="34581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 rot="14139000">
            <a:off x="5910840" y="34581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4249800"/>
            <a:ext cx="331128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biot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221000"/>
            <a:ext cx="331164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Biotic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1863720" y="5057640"/>
            <a:ext cx="574560" cy="486000"/>
          </a:xfrm>
          <a:custGeom>
            <a:avLst/>
            <a:gdLst>
              <a:gd name="textAreaLeft" fmla="*/ 89640 w 574560"/>
              <a:gd name="textAreaRight" fmla="*/ 502920 w 5745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6614640" y="5057640"/>
            <a:ext cx="574560" cy="485640"/>
          </a:xfrm>
          <a:custGeom>
            <a:avLst/>
            <a:gdLst>
              <a:gd name="textAreaLeft" fmla="*/ 89640 w 574560"/>
              <a:gd name="textAreaRight" fmla="*/ 502920 w 5745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5661000"/>
            <a:ext cx="29530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ter, air, temperature, soil, precipitation, w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80000" y="5661000"/>
            <a:ext cx="27370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, communi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Populations and Comm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32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Populatio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re organisms of the same species living in the same environm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ulations co-existing in the same habitat are called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communiti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Habitats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change over time and over season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imals and plants need to adapt to these chan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The Food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is a source of energy for all 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th of this energy is called a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food ch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ch ecosystem the components of a food chain are divided into three groups: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roduc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onsum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decompos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The Food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1090800" cy="1636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H="1" rot="10869600">
            <a:off x="2268000" y="1773000"/>
            <a:ext cx="865440" cy="431640"/>
          </a:xfrm>
          <a:custGeom>
            <a:avLst/>
            <a:gdLst>
              <a:gd name="textAreaLeft" fmla="*/ 135360 w 865440"/>
              <a:gd name="textAreaRight" fmla="*/ 757800 w 8654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419640" y="1413000"/>
            <a:ext cx="1655640" cy="1104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 rot="10869600">
            <a:off x="5363640" y="1773000"/>
            <a:ext cx="865440" cy="431640"/>
          </a:xfrm>
          <a:custGeom>
            <a:avLst/>
            <a:gdLst>
              <a:gd name="textAreaLeft" fmla="*/ 135360 w 865440"/>
              <a:gd name="textAreaRight" fmla="*/ 757800 w 8654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300720" y="1341360"/>
            <a:ext cx="1647720" cy="1292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3284640"/>
            <a:ext cx="102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7235280" y="3716280"/>
            <a:ext cx="976320" cy="975960"/>
          </a:xfrm>
          <a:custGeom>
            <a:avLst/>
            <a:gdLst>
              <a:gd name="textAreaLeft" fmla="*/ 0 w 976320"/>
              <a:gd name="textAreaRight" fmla="*/ 976680 w 976320"/>
              <a:gd name="textAreaTop" fmla="*/ 0 h 975960"/>
              <a:gd name="textAreaBottom" fmla="*/ 976320 h 9759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71640" y="3645000"/>
            <a:ext cx="2951280" cy="863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Food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796000" y="5013360"/>
            <a:ext cx="1800360" cy="1200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539640" y="4869000"/>
            <a:ext cx="1873440" cy="123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10730400">
            <a:off x="3708000" y="5300640"/>
            <a:ext cx="865080" cy="432000"/>
          </a:xfrm>
          <a:custGeom>
            <a:avLst/>
            <a:gdLst>
              <a:gd name="textAreaLeft" fmla="*/ 135000 w 865080"/>
              <a:gd name="textAreaRight" fmla="*/ 757080 w 86508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78136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bivo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grassh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299736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78136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iv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nivo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62164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ivor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sn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330960"/>
            <a:ext cx="259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ivor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birds of pr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Food Pyram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557360"/>
            <a:ext cx="8064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e link the food chains together we obtain a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food pyram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917360" y="2499480"/>
            <a:ext cx="5307480" cy="4162320"/>
            <a:chOff x="1917360" y="2499480"/>
            <a:chExt cx="5307480" cy="4162320"/>
          </a:xfrm>
        </p:grpSpPr>
        <p:sp>
          <p:nvSpPr>
            <p:cNvPr id="104" name="_s43017"/>
            <p:cNvSpPr/>
            <p:nvPr/>
          </p:nvSpPr>
          <p:spPr>
            <a:xfrm flipV="1">
              <a:off x="3907800" y="2499480"/>
              <a:ext cx="1326600" cy="1040400"/>
            </a:xfrm>
            <a:custGeom>
              <a:avLst/>
              <a:gdLst>
                <a:gd name="textAreaLeft" fmla="*/ 475920 w 1326600"/>
                <a:gd name="textAreaRight" fmla="*/ 850680 w 1326600"/>
                <a:gd name="textAreaTop" fmla="*/ 373320 h 1040400"/>
                <a:gd name="textAreaBottom" fmla="*/ 667080 h 104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ccff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elic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 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43018"/>
            <p:cNvSpPr/>
            <p:nvPr/>
          </p:nvSpPr>
          <p:spPr>
            <a:xfrm flipV="1">
              <a:off x="3244320" y="3540240"/>
              <a:ext cx="2653560" cy="1040400"/>
            </a:xfrm>
            <a:custGeom>
              <a:avLst/>
              <a:gdLst>
                <a:gd name="textAreaLeft" fmla="*/ 583560 w 2653560"/>
                <a:gd name="textAreaRight" fmla="*/ 2070000 w 2653560"/>
                <a:gd name="textAreaTop" fmla="*/ 228600 h 1040400"/>
                <a:gd name="textAreaBottom" fmla="*/ 811800 h 104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s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 gra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3019"/>
            <p:cNvSpPr/>
            <p:nvPr/>
          </p:nvSpPr>
          <p:spPr>
            <a:xfrm flipV="1">
              <a:off x="2580840" y="4581000"/>
              <a:ext cx="3980520" cy="1040400"/>
            </a:xfrm>
            <a:custGeom>
              <a:avLst/>
              <a:gdLst>
                <a:gd name="textAreaLeft" fmla="*/ 690840 w 3980520"/>
                <a:gd name="textAreaRight" fmla="*/ 3289680 w 3980520"/>
                <a:gd name="textAreaTop" fmla="*/ 180360 h 1040400"/>
                <a:gd name="textAreaBottom" fmla="*/ 860040 h 104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ccff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ymphs and larva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0 gra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43020"/>
            <p:cNvSpPr/>
            <p:nvPr/>
          </p:nvSpPr>
          <p:spPr>
            <a:xfrm flipV="1">
              <a:off x="1917360" y="5621400"/>
              <a:ext cx="5307480" cy="1040400"/>
            </a:xfrm>
            <a:custGeom>
              <a:avLst/>
              <a:gdLst>
                <a:gd name="textAreaLeft" fmla="*/ 798480 w 5307480"/>
                <a:gd name="textAreaRight" fmla="*/ 4509000 w 5307480"/>
                <a:gd name="textAreaTop" fmla="*/ 156240 h 1040400"/>
                <a:gd name="textAreaBottom" fmla="*/ 884160 h 104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ater pla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00 gra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Emily Rosser</cp:lastModifiedBy>
  <dcterms:modified xsi:type="dcterms:W3CDTF">2008-08-26T10:49:06Z</dcterms:modified>
  <cp:revision>17</cp:revision>
  <dc:subject/>
  <dc:title>  </dc:title>
</cp:coreProperties>
</file>