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400-0F70-4A42-9860-3F39DED0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7AD-982B-4C92-8265-064568EA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470-1231-4321-90A3-5B424897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97D-4A68-4BC1-A79A-55498CA8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DC7-1334-4A0A-B8A8-9747EC12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1FF-E577-4962-B061-FD811631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4B1-0771-42ED-98C9-6B7C7BE8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9DF-F5E4-476A-8AF1-320B4C18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5D3-7261-48C9-8529-BFC999EA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431-6675-4DFE-8ABB-FF6BE0A3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138-7ABD-447B-8169-14518642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FAE-7D14-4C6E-B4EE-94FBB81C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407D-AEEA-4264-9CBE-AFDEBC2F7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59880" y="0"/>
            <a:ext cx="128412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Ecosystem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1484280"/>
            <a:ext cx="8207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world is composed of living and non-living things. The living part is called 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biosphe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living things depend upon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cosy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small part of the bi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habit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where an organism l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nviron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sum of the living and non-living factors that surround an org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nvironment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413000"/>
            <a:ext cx="821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nvironment ha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276640"/>
            <a:ext cx="3240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7081200">
            <a:off x="231012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 rot="14139000">
            <a:off x="591084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249800"/>
            <a:ext cx="3311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221000"/>
            <a:ext cx="331164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863720" y="5057640"/>
            <a:ext cx="574560" cy="48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6614640" y="5057640"/>
            <a:ext cx="574560" cy="48564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661000"/>
            <a:ext cx="295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, air, temperature, soil, precipitation,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5661000"/>
            <a:ext cx="273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, commun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opulations and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3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opu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organisms of the same species living in the same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s co-existing in the same habitat are called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commun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Habitats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change over time and over seas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mals and plants need to adapt to these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s a source of energy for all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h of this energy is called a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ood ch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ecosystem the components of a food chain are divided into three groups: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rodu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ecompo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1090800" cy="163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rot="10869600">
            <a:off x="226800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419640" y="1413000"/>
            <a:ext cx="1655640" cy="110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 rot="10869600">
            <a:off x="536364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00720" y="1341360"/>
            <a:ext cx="16477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284640"/>
            <a:ext cx="102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235280" y="3716280"/>
            <a:ext cx="976320" cy="975960"/>
          </a:xfrm>
          <a:custGeom>
            <a:avLst/>
            <a:gdLst>
              <a:gd name="textAreaLeft" fmla="*/ 0 w 976320"/>
              <a:gd name="textAreaRight" fmla="*/ 976680 w 9763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3645000"/>
            <a:ext cx="2951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ood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796000" y="501336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9640" y="4869000"/>
            <a:ext cx="1873440" cy="123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0730400">
            <a:off x="3708000" y="5300640"/>
            <a:ext cx="865080" cy="43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781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b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rassh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2997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78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n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30960"/>
            <a:ext cx="25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birds of p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Food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557360"/>
            <a:ext cx="806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link the food chains together we obtain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ood pyram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17360" y="2499480"/>
            <a:ext cx="5307480" cy="4162320"/>
            <a:chOff x="1917360" y="2499480"/>
            <a:chExt cx="5307480" cy="4162320"/>
          </a:xfrm>
        </p:grpSpPr>
        <p:sp>
          <p:nvSpPr>
            <p:cNvPr id="104" name="_s43017"/>
            <p:cNvSpPr/>
            <p:nvPr/>
          </p:nvSpPr>
          <p:spPr>
            <a:xfrm flipV="1">
              <a:off x="3907800" y="2499480"/>
              <a:ext cx="1326600" cy="1040400"/>
            </a:xfrm>
            <a:custGeom>
              <a:avLst/>
              <a:gdLst>
                <a:gd name="textAreaLeft" fmla="*/ 475920 w 1326600"/>
                <a:gd name="textAreaRight" fmla="*/ 850680 w 1326600"/>
                <a:gd name="textAreaTop" fmla="*/ 373320 h 1040400"/>
                <a:gd name="textAreaBottom" fmla="*/ 66708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elic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 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18"/>
            <p:cNvSpPr/>
            <p:nvPr/>
          </p:nvSpPr>
          <p:spPr>
            <a:xfrm flipV="1">
              <a:off x="3244320" y="3540240"/>
              <a:ext cx="2653560" cy="1040400"/>
            </a:xfrm>
            <a:custGeom>
              <a:avLst/>
              <a:gdLst>
                <a:gd name="textAreaLeft" fmla="*/ 583560 w 2653560"/>
                <a:gd name="textAreaRight" fmla="*/ 2070000 w 2653560"/>
                <a:gd name="textAreaTop" fmla="*/ 228600 h 1040400"/>
                <a:gd name="textAreaBottom" fmla="*/ 81180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19"/>
            <p:cNvSpPr/>
            <p:nvPr/>
          </p:nvSpPr>
          <p:spPr>
            <a:xfrm flipV="1">
              <a:off x="2580840" y="4581000"/>
              <a:ext cx="3980520" cy="1040400"/>
            </a:xfrm>
            <a:custGeom>
              <a:avLst/>
              <a:gdLst>
                <a:gd name="textAreaLeft" fmla="*/ 690840 w 3980520"/>
                <a:gd name="textAreaRight" fmla="*/ 3289680 w 3980520"/>
                <a:gd name="textAreaTop" fmla="*/ 180360 h 1040400"/>
                <a:gd name="textAreaBottom" fmla="*/ 86004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ymphs and larv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20"/>
            <p:cNvSpPr/>
            <p:nvPr/>
          </p:nvSpPr>
          <p:spPr>
            <a:xfrm flipV="1">
              <a:off x="1917360" y="5621400"/>
              <a:ext cx="5307480" cy="1040400"/>
            </a:xfrm>
            <a:custGeom>
              <a:avLst/>
              <a:gdLst>
                <a:gd name="textAreaLeft" fmla="*/ 798480 w 5307480"/>
                <a:gd name="textAreaRight" fmla="*/ 4509000 w 5307480"/>
                <a:gd name="textAreaTop" fmla="*/ 156240 h 1040400"/>
                <a:gd name="textAreaBottom" fmla="*/ 88416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ater pla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Emily Rosser</cp:lastModifiedBy>
  <dcterms:modified xsi:type="dcterms:W3CDTF">2008-08-26T10:49:06Z</dcterms:modified>
  <cp:revision>17</cp:revision>
  <dc:subject/>
  <dc:title>  </dc:title>
</cp:coreProperties>
</file>