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F0DC-FAB1-4A79-9A54-43403E0444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9B056-3DE2-49B9-A5A7-F52215F9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CFFF3-6AC2-4A02-9486-691C9F89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5BB6C-7BDA-4EDF-895C-B6C06D72D6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105CF-72E4-4892-8803-2735C2B1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76AD-6E7C-41AE-9257-33770A34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41A25-F386-45C8-B099-4E72AED1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FA857-89A1-4550-8C59-06357C0B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3574D-0249-4B26-8C35-5A617A97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C3A94-B70C-49A2-BFBD-B8874389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D8D77-E291-4524-8C35-BA7D1786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89538-0B78-4AC4-8F75-4C55AD7F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F7FC-3EC5-4C06-A61A-A84C9EA8A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bined heat an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 (CHP) pla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ook at the diagram and write sentences,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in your group: does burning biomass in a CHP plant add to climat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 on the worksheet.  Does burning biomass in a CHP plant add to climat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join the w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match the pictures with the correct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14:53Z</dcterms:modified>
  <cp:revision>28</cp:revision>
  <dc:subject/>
  <dc:title>  </dc:title>
</cp:coreProperties>
</file>