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582A-D711-40EC-8581-F7118AC3E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AA33-1F6E-473A-9CBD-2D6A1104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AAB7-6FFD-4BAF-BB0A-2CCAAA43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1F28-B879-476C-A3A2-CDE86E24E6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EB6AB-6F4E-4433-8B0C-E2D17737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4EE2-91E8-430C-A07D-874A210E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8669-3FED-45BC-AE4E-D5D62D9A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182D-470C-49F8-AC5C-31E2A58A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3CB69-86C7-449F-A537-FA230164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9839-4834-45B3-B504-14AB42A6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5AF9-BD0E-4040-9720-8DF6F1F2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61BD-4E00-44B5-95BF-85285539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AD9A-8DAD-4459-B57A-A8B683FEF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bined heat a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 (CHP) pl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ook at the diagram and write sentences,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in your group: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 on the worksheet. 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join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match the pictures with the correc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14:53Z</dcterms:modified>
  <cp:revision>28</cp:revision>
  <dc:subject/>
  <dc:title>  </dc:title>
</cp:coreProperties>
</file>