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59FF8-AFD4-49B1-A154-E318A046E7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11400-2F15-47F6-A69C-849B63C0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9EC5-64A0-4EF8-B552-FDDBB5D3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721C-1411-4452-8F9A-7033749EB2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C1F4-BDD7-4937-AEE0-DE23D1E7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FACD-717D-418D-AB04-B5873B78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1CD6-0EC3-4BA7-BE80-BDC29F69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64CE-07BD-4750-A11D-58A6743E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487B-281C-49EC-B1E8-943FA6E8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768D-D7FB-40F0-80E2-68D6E26D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BA19-1051-4625-9B75-080EAFC0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8270-18CC-450B-A4F7-F801F0D7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CD6D-EA3D-478D-8DE2-0F3D5FF86A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Geothermal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read the text and draw four simpl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whether your diagrams were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6:47Z</dcterms:modified>
  <cp:revision>29</cp:revision>
  <dc:subject/>
  <dc:title>  </dc:title>
</cp:coreProperties>
</file>