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F4B4-5D30-461A-ACAB-5D11A8B52B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AAB7-C5E9-491C-A9DF-4DA4E45A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2E70-2398-442C-A018-A1105AD0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EFD1-2046-4D3E-8586-F0AA9430BD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D85B-DE00-4A68-9E72-898616AD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C179-8CCB-4A13-A272-4E963248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112D-F7E4-43F9-B04A-42332A93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3D5F-10C6-4756-AA09-2C9189FD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76F3B-F3C3-4F0E-90A3-BD547B7B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55BA5-CEF9-4315-B5DB-C5E62310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240D-0FE8-4E78-B30B-9E638E0F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D58C-4D4F-40E5-BBF3-579A91BF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61B9-FEF5-43F1-AC59-C3DEDC2ADF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Geothermal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write sentenc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6:47Z</dcterms:modified>
  <cp:revision>29</cp:revision>
  <dc:subject/>
  <dc:title>  </dc:title>
</cp:coreProperties>
</file>