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EE80-3C7C-41EA-8A91-FE78E3DBA6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E4BDE-C402-483F-B2C6-7D269144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2B54C-9D6E-479E-91C7-1224937E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16F1-5FE1-456A-8B95-237D282BD0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1C06-B6B0-41DC-9C71-B1F52A9E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A0FAF-D8C4-48D8-BB3A-E549CF3D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F72AE-1DD0-4872-AE93-83BB7CCC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02BB7-3BB2-4DEA-A3C3-475A0E117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C61D5-723D-4B2A-AA01-E3A9CB95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FFEC-727F-4ACF-B0C9-AF5B6427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1FF30-0A09-4C63-9DCB-AF5DCD2A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6440-0DD8-4681-9DEF-EC1F4EF5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2D3F-E620-4B3F-9E6D-B557E97AF7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ok at the diagram in exercise 1 and explain how hydro power is p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read the text and draw four simple dia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whether your diagrams were correct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Fabio</cp:lastModifiedBy>
  <dcterms:modified xsi:type="dcterms:W3CDTF">2008-10-31T12:07:17Z</dcterms:modified>
  <cp:revision>29</cp:revision>
  <dc:subject/>
  <dc:title>  </dc:title>
</cp:coreProperties>
</file>