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C519EC-0042-406E-9793-B8702EEE9AF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B156D9-4339-499E-9754-D3A10E932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DEA4A0-35F5-4931-A213-E4609E919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5A04C3-A0EF-40FD-A35E-CA90212B598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43AC35-FD95-451A-99EA-7C00329A4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214042-738C-44A6-8DB1-91EA3D065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7B2A00-A90B-4C2F-B3DC-5E286E6AA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AC6EB6-B751-47D0-A371-95212ECA8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485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516A8D-683E-49F2-8304-E7BB0804C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ED158F-EA74-4B2A-8C1C-1BF79122A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F5FBB2-7AC8-4114-BCB0-A061A519E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75657E-7002-4BF1-87C7-DDA969B3F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BCFC2-F389-4BD9-8BBA-7455661E241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onestopclil.com/" TargetMode="External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Tidal power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6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8112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0600" y="6165720"/>
            <a:ext cx="820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90600" y="6165720"/>
            <a:ext cx="828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74600" y="6165720"/>
            <a:ext cx="8713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This PowerPoint presentation has been downloaded from </a:t>
            </a: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onestopclil.com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. Presentation written by John Clegg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© Copyright Macmillan Publishers Ltd 2008.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nimation licensed by The Science Museum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Before you wa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 exercise 1 on the worksheet: talk about the picture with your group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d discuss how tidal power generates electr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42920" y="6400800"/>
            <a:ext cx="889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a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lay the animation and check if you described the process correctly in exercise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ShockwaveFlash1"/>
          <p:cNvGraphicFramePr/>
          <p:nvPr/>
        </p:nvGraphicFramePr>
        <p:xfrm>
          <a:off x="0" y="0"/>
          <a:ext cx="9142560" cy="685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2560" cy="68565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After you wa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 exercise 2 on the worksheet: write sentences using the promp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 exercise 3 on the worksheet: complete the gap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esentation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for classes working in groups onl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 an oral commentary on the anim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8T12:15:46Z</dcterms:created>
  <dc:creator>Macmillan Staff Member</dc:creator>
  <dc:description/>
  <dc:language>en-US</dc:language>
  <cp:lastModifiedBy>Fabio</cp:lastModifiedBy>
  <dcterms:modified xsi:type="dcterms:W3CDTF">2008-10-31T12:08:05Z</dcterms:modified>
  <cp:revision>29</cp:revision>
  <dc:subject/>
  <dc:title>  </dc:title>
</cp:coreProperties>
</file>