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EDBFBE-8419-438F-8ECE-B4CFDE3DD35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BADD71-32A4-41FE-9740-83FD1FDD6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E76281-D0F6-46DD-A087-C4C9391A0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FFB244-CE13-4E30-BBA3-521229DC0D4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3D9BA5-5541-42C7-BFB0-CB60D58C1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6C32DB-392D-49A4-8818-D665420DF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8B83E1-B8F3-4A97-8DB5-BF55FFBB1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D957CC-0672-4700-A43B-D46A1B5E2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485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2FE347-E0A1-4F67-8225-3C1295F33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1A1B3F-EEE4-4959-8357-89094F870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208415-F512-4EAD-8851-690D74AFA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EACF2B-CBC1-45AD-A8A7-1726EBC7B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391C0-A1E9-42BA-907E-58C4685B7B6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onestopclil.com/" TargetMode="External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Wave power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6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2920" y="6400800"/>
            <a:ext cx="8893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This PowerPoint presentation has been downloaded from </a:t>
            </a: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onestopclil.com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. Presentation written by John Clegg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© Copyright Macmillan Publishers Ltd 2008.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nimation licensed by The Science Museum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Before you wa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 exercise 1 on the worksheet: label the diagra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alk in your group and discuss how wave power generates electricity.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a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atch the animation and check your answers to exercise 1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ShockwaveFlash1"/>
          <p:cNvGraphicFramePr/>
          <p:nvPr/>
        </p:nvGraphicFramePr>
        <p:xfrm>
          <a:off x="0" y="0"/>
          <a:ext cx="9142560" cy="685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2560" cy="68565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After you wa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 exercise 2 on the worksheet: match the two parts of each sente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 exercise 3 on the worksheet: write sentences using the promp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esentation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for classes working in groups onl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Give an oral commentary on the anim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8T12:15:46Z</dcterms:created>
  <dc:creator>Macmillan Staff Member</dc:creator>
  <dc:description/>
  <dc:language>en-US</dc:language>
  <cp:lastModifiedBy>Fabio</cp:lastModifiedBy>
  <dcterms:modified xsi:type="dcterms:W3CDTF">2008-10-31T12:07:50Z</dcterms:modified>
  <cp:revision>32</cp:revision>
  <dc:subject/>
  <dc:title>  </dc:title>
</cp:coreProperties>
</file>