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8F27-60B1-4BB4-97EF-881D41BDBA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9271-1429-4F35-AEC0-DC6C40F3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F5BE-C07B-436A-A0C6-EAC71103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131A-129B-4959-9962-169D2877D5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119F-9FF2-43A9-859C-15FC55D2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B2B9-CBF1-4327-9905-212A225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ECE7-B745-4CC9-9F66-382ABA3A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72AC-2B37-429A-A891-57AD55AB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B1C7-29E7-47D2-8036-A334D19C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E874-C4AF-4562-B769-A5C76132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270EF-F228-41D6-A395-C4284F67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626A-8F50-4A75-ABF6-DC4DDE25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72BE-5A43-4CA0-9932-5C63FC1BA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iomass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www.onestopclil.com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opyright Macmillan Publishers Ltd 2008. Animation licensed by The Science Museum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biomas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is it used to make electricity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slide 1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use the prompts to writ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5:59Z</dcterms:modified>
  <cp:revision>35</cp:revision>
  <dc:subject/>
  <dc:title>  </dc:title>
</cp:coreProperties>
</file>