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B6CB1-2F7A-4C21-9F73-30FA41E33012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5C29F-4794-4FE8-8378-AC97CB6D6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26BF-9468-4123-8CB4-17CB8DC54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2864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9276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D5882E-4D30-47EE-988B-877A70A3A1F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C6459F-1D7E-4DC1-AB81-6025A8DE3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C30DA-9C34-4C90-8BC6-2556F9E48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FF8AC8-6504-40AF-8F45-56C8F86FF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8B89BF-8640-47B4-A946-27AD79209C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8528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8737B4-FEBA-45FB-A95E-FDE3DC3E3E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FF840D-B84A-4D6F-83E4-738099E84A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9276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1D7E25-3502-492C-9C6F-514E6F3978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2864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9276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D6DDC5-1672-4152-B09F-F798212C4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DAECF5-4054-452F-B425-DEEF3F6AD4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onestopclil.com/" TargetMode="External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-304920" y="-228600"/>
            <a:ext cx="9753840" cy="73152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00000"/>
                </a:solidFill>
                <a:latin typeface="Arial"/>
              </a:rPr>
              <a:t>Hydrogen power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6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2920" y="6400800"/>
            <a:ext cx="88930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This PowerPoint presentation has been downloaded from </a:t>
            </a:r>
            <a:r>
              <a:rPr b="0" lang="en-GB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onestopclil.com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. Presentation written by John Cleg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© Copyright Macmillan Publishers Ltd 2008. </a:t>
            </a:r>
            <a:r>
              <a:rPr b="0" lang="en-GB" sz="1000" spc="-1" strike="noStrike">
                <a:solidFill>
                  <a:srgbClr val="000000"/>
                </a:solidFill>
                <a:latin typeface="Arial"/>
              </a:rPr>
              <a:t>Animation licensed by The Science Museum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Before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1 on the worksheet: match the captions with the correct pic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Watch the animation and check your answers to exercise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ShockwaveFlash1"/>
          <p:cNvGraphicFramePr/>
          <p:nvPr/>
        </p:nvGraphicFramePr>
        <p:xfrm>
          <a:off x="0" y="0"/>
          <a:ext cx="9142560" cy="6856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ShockwaveFlash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9142560" cy="68565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Arial"/>
              </a:rPr>
              <a:t>After you watc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2 on the worksheet: talk with your partner about hydrogen power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Arial"/>
              </a:rPr>
              <a:t>Do exercise 3 on the worksheet: write sentences in the passive form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o exercise 4 on the worksheet: write answers to the quest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485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esentation</a:t>
            </a:r>
            <a:br>
              <a:rPr sz="4400"/>
            </a:b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(for classes working in groups only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Give an oral commentary on the anim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28T12:15:46Z</dcterms:created>
  <dc:creator>Macmillan Staff Member</dc:creator>
  <dc:description/>
  <dc:language>en-US</dc:language>
  <cp:lastModifiedBy>Macmillan Staff Member</cp:lastModifiedBy>
  <dcterms:modified xsi:type="dcterms:W3CDTF">2008-09-15T08:08:07Z</dcterms:modified>
  <cp:revision>29</cp:revision>
  <dc:subject/>
  <dc:title>  </dc:title>
</cp:coreProperties>
</file>