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088E5C-6075-4929-9385-0CAEDDBE30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EFD7-C4C6-42A5-833B-6532EEC9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DC839-21CE-45C9-99F1-17470934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70751-667F-4FAD-AED8-4573C405EBA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92647-AC75-412C-B7A4-431089858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7BEB3-682F-476C-977D-69201EAB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4CB1C-3DEC-4F34-9454-D15C34DAC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49C54-9388-48EE-8739-BA5E94CA2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CD20D-557B-4AFD-B71C-1BDE95478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C6E2A8-540B-4476-A52C-B9A00207A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D5C3-BCF6-4A11-98E9-5D1C7E1AF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043B1-31B4-4887-9ED9-D79E7562D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EF6F9-8A36-43D9-BCA7-75C4285BF3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uel cel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what you know about fuel cells and how they work. Try to answer the questions in exercise 1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listen for the answers to the questions in exercise 1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your answers in your pair/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captions with the correct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7:38Z</dcterms:modified>
  <cp:revision>35</cp:revision>
  <dc:subject/>
  <dc:title>  </dc:title>
</cp:coreProperties>
</file>