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89F81D-A4AC-48CB-B339-52318D14870B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19FF62-439F-4480-9EEC-06804001C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F9B691-4D8D-4428-A2CB-C9E25D8501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C8247F-FE8F-4B67-B502-972A76BAD5EC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448253-548E-4CF3-B360-CF007E27F3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CD4D43-3FA9-4AEE-9C18-239432F22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F6B17E-6F5F-4F62-97A6-F9439BF0E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501E7-6BBB-4AF7-8A05-E60BAC950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77A43C-DF1A-48B6-ACEE-6DAC06FFEB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EE481BB-0043-495C-A2B2-164C9034B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F3ED81-027F-4CEA-9EEF-905E07D79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FD4088A-372A-4CA1-9307-FE2C02ADD4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E16CB1-FF9B-496D-944F-87C93F37C8D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Fuel cell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iscuss what you know about fuel cells and how they work. Try to answer the questions in exercise 1 on the work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listen for the answers to the questions in exercise 1 on the workshee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Check your answers in your pair/group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match the captions with the correct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3 on the worksheet: complete the gap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acmillan Staff Member</cp:lastModifiedBy>
  <dcterms:modified xsi:type="dcterms:W3CDTF">2008-09-15T08:07:38Z</dcterms:modified>
  <cp:revision>35</cp:revision>
  <dc:subject/>
  <dc:title>  </dc:title>
</cp:coreProperties>
</file>