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E530-1524-41B0-A6ED-2E80B62BC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CF88-0AA0-42E9-9DB2-7860553F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DD5F-751C-4C51-9F31-ACE96EF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1FCB-1C95-4ABC-8BF1-87DDB926E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555D-5DBD-4C5A-90A4-2EF8533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9546-437E-43DB-9B24-E7AF3C8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FDE5-3C52-4D3D-94EA-503A796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EC4F-8AFB-4435-BBB5-31B1218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D1B5-5196-4282-A216-F4FE6081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4BF8-36E4-4383-BC76-05A5BB05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3C43-8156-4427-959E-A37F15C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ACEA-ED42-4084-9129-58257BC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67A-C3DF-4378-9D89-5273028A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ug batt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a diagram of a bug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 labelled the diagram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6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6:30Z</dcterms:modified>
  <cp:revision>31</cp:revision>
  <dc:subject/>
  <dc:title>  </dc:title>
</cp:coreProperties>
</file>