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2C31-3440-4266-888A-1CBF69EE86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2AE1-2976-4923-A4B4-D089C94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CD48-58E9-4EB4-AC26-872E43D6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B58B-B29B-4576-8563-974C41EFAB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C7F7-0669-4A75-B4AE-1A26F1B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CE42-4697-4ACD-83C2-CB2070E2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3404-3DCC-483F-B2E7-B1CF7567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5303-5CB8-4084-9689-85AD3F24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9006-7446-4E5C-B61F-9E03764D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91AC-775F-4215-AD46-BF1653EC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4D79-3F47-4FA4-9A4C-3F87BCF6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ED99-7A8E-4186-935D-24686495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1B40-8FF3-4A22-B040-7115273D1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an engine work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check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join the phrases to show the correct sequence of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06Z</dcterms:modified>
  <cp:revision>26</cp:revision>
  <dc:subject/>
  <dc:title>  </dc:title>
</cp:coreProperties>
</file>