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A3E3227-94FB-4B8B-B209-4AC9CFCFFD7C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256529-92E0-44ED-A6E1-392A9971B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99EDEA-F366-4E38-A9B5-176828D36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792EF1-2514-44E3-A0CE-58647F9EB503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25368F-FCA1-4B65-B3BA-6A649DCE46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2136D4-74EC-4B90-8352-CA80DF33B5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731EB2-D26C-4147-855B-07D676E87D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9DEFD-B44C-44E7-8A2A-049EDAA5E2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09411D-5E31-42D9-92D3-6EFD451A4B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AEBA02-2D7C-4BAB-839D-982ECB8DA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6BB889-1694-48E6-9A0C-5A0C66AEC6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A78D22-4DC8-4DF9-AE9D-B587080AF2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01FB60-4887-4C24-95B2-38D9F5BB3E4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ow an engine work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47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label the diagra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match the pictures with the correct cap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atch the animation and check your answ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join the phrases to show the correct sequence of ac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7:06Z</dcterms:modified>
  <cp:revision>26</cp:revision>
  <dc:subject/>
  <dc:title>  </dc:title>
</cp:coreProperties>
</file>