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204E8A-9CB7-4EB9-952B-EB9612B2135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D814FF4-1E53-42D2-962E-DD424294F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A203C57-8D84-40F6-AB8F-C434B443D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3C4EA62-ECE8-46E8-9170-6552C6F9E86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AE2559-11E0-4D1A-A137-71209DF4D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50381D-BD91-4577-8104-E852A64C7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FC8C2AB-A8E2-4598-BA83-AD2021E4A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5BEA99B-A14D-47CF-9143-C137453A7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8C1BB92-0832-46FF-AC49-65B849FEC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97B8ACD-DF1E-45E2-836D-A65E1EE2E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3D432B8-B5D9-4753-83BA-617DE720E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DB100C8-F410-43A9-84A3-32BE8717F0E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E854-E16F-4C3E-AC7C-85A6B49D463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ea action</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48036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48036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longshore drift.  In pairs, take turns, one talks the other listens, then swap roles.  In groups, use the template to help you prepare a presentation on longshore drif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17:29Z</dcterms:modified>
  <cp:revision>42</cp:revision>
  <dc:subject/>
  <dc:title>  </dc:title>
</cp:coreProperties>
</file>