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5A427C-F62F-4FD7-867F-7FD1006D43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1778C77-2DE0-4478-B7EB-FC59F5EE4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58E5684-0158-480E-AE82-40F2F7480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FC73B9A-F3FA-491D-89F2-6A3F2F84B5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B1DF63-C0A4-4DC7-96B2-20451549C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7698AE-5751-4853-8F68-1D688EE40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9E3440D-5411-4921-964E-C579ACB3B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AE4A1F6-4094-4EFC-87CA-0EA83BCF7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8576261-5EB6-452A-8690-7DB4FD83D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79CE73-8646-437C-973D-3D7421AE2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8CB3A2-C59C-4BF8-866B-77DBAB724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A83F97D-2D68-4894-85DC-8D6B68D04C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DD12-1F72-43D9-B132-699F086AA5D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a actio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longshore drift.  In pairs, take turns, one talks the other listens, then swap roles.  In groups, use the template to help you prepare a presentation on longshore dri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29Z</dcterms:modified>
  <cp:revision>42</cp:revision>
  <dc:subject/>
  <dc:title>  </dc:title>
</cp:coreProperties>
</file>