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A69EAC-27BC-4119-B1AA-796BF5CC87D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F9709F2-F5B4-45D7-B08D-68677D3C4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658FC87-C1FB-494D-9F89-054A259D6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F21638E-8B0C-4AA1-B5CD-2ED2B6F0261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AFA488-B585-4B83-A4DC-5654C1511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C44C27-6419-42F9-B608-C952136D0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5676F7C-F8F7-4C3B-9046-D4CC2C549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F6F37205-9DEB-48BB-A1D5-F4B80E130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1992D1E-AC56-4497-8D22-6ECBCAD8D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D91BC3B-C541-45AC-873E-CD008030D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AA83CF3-D157-45AC-9714-4A76239E1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A93ADF6-E2F7-4B8B-B546-7804D282A28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20F58-C60E-4CDE-9B90-6CDD31CD73E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econdary Economic Activity</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48036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48036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secondary economic activity.  In pairs, take turns, one talks the other listens, then swap roles.  In groups, use the template to help you prepare a presentation on the secondary economic activ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21:59Z</dcterms:modified>
  <cp:revision>44</cp:revision>
  <dc:subject/>
  <dc:title>  </dc:title>
</cp:coreProperties>
</file>