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0FD757-AA27-4221-AAD5-6F514B7FA3F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65A8483-F9AC-465D-9F5C-3AFFC2DB8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7EDF53A-36C8-447A-99F4-BAB397FF2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00618E0-DE24-4C68-B025-82F85EBE757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75D29B-4E1D-4D40-8A8A-CF43186D0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86D831-6A4A-41DC-9EC0-46A59F11D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9DD4211-4451-4D2B-A8BA-E25D1B1A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CF03A29-3424-40DC-A76D-B8A49AE75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78132F2-E47F-459E-A32C-1D8EECC0B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81A945A-64B9-4C6C-B6A9-3597C3995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D7529C7-4EC7-4E2A-B3DF-D97F2C2C3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FA35C29-C9B3-48F0-BB3A-321F6E49597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207B-9C52-4D54-B051-B3AC6515084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condary Economic Activity</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secondary economic activity.  In pairs, take turns, one talks the other listens, then swap roles.  In groups, use the template to help you prepare a presentation on the secondary economic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1:59Z</dcterms:modified>
  <cp:revision>44</cp:revision>
  <dc:subject/>
  <dc:title>  </dc:title>
</cp:coreProperties>
</file>