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D6DB7B-720C-4920-94D7-B4812CACEFD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A8B26CF-FB61-4604-96E7-E1827A51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C3DC856-E74E-40CC-9778-3BA75724A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A895663-D078-440D-845C-C4A71F56CAE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120B3E-7A4B-4162-BFF8-EE55FFE80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9A6C30-2D53-4D85-80F5-4B50CE978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D1A4BD1-8256-4A12-AD3C-DB8EE2774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D2C1178-6C5D-4714-A107-F88E3AE21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175FBB3-4BD9-45E0-A8D8-A183BCBA6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50FA87-2E4C-4BA5-82F2-6E586CE17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FC472F-03C9-4ED8-80D6-0C8810292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26808DF-1CB8-4AF5-8BC1-DA5718A0CF2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34A2-18D7-4091-86F3-CE937149A2E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Natural Resources</a:t>
            </a:r>
            <a:br>
              <a:rPr sz="5400"/>
            </a:br>
            <a:r>
              <a:rPr b="1" lang="en-GB" sz="5400" spc="-1" strike="noStrike">
                <a:solidFill>
                  <a:srgbClr val="000000"/>
                </a:solidFill>
                <a:latin typeface="Arial"/>
              </a:rPr>
              <a:t>(the water cycle)</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55164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55164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the water cycle.  In pairs, take turns, one talks the other listens, then swap roles.  In groups, use the template to help you prepare a presentation on the water cyc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4:00Z</dcterms:modified>
  <cp:revision>44</cp:revision>
  <dc:subject/>
  <dc:title>  </dc:title>
</cp:coreProperties>
</file>