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4A789-F9B5-4368-A140-F7245F15A6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A68D-193C-437D-9003-D6E8614D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E8CCA-0615-4CCE-AF6A-8AA48FCD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55BE5-BE60-4B71-ACDF-6AEB912CF0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A99C-B181-452B-B47D-65272376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5B01-78DB-456B-B3EB-179CEFA7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2E59-2BEB-45C6-8875-3C06DD26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7E4F-76C0-48A7-AEEC-68C51F83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799A-459A-4B7B-9224-312F8145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20ED2-B038-4B13-A181-C280A83A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6D08-54A9-4DDC-8904-67831E62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6D2D-BF26-4A14-81E2-0C4F0B29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178A-0586-4910-B26C-4D3CFF2C3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onestopenglish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estopenglish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Keith Ke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10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Do exercise 1 on the worksheet: label the dia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, match the parts of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PPT template to practice talking about how an ox-bow lake is form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l.williams</cp:lastModifiedBy>
  <dcterms:modified xsi:type="dcterms:W3CDTF">2010-09-02T12:14:29Z</dcterms:modified>
  <cp:revision>46</cp:revision>
  <dc:subject/>
  <dc:title>  </dc:title>
</cp:coreProperties>
</file>