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D0EC1-87E2-4B0C-80C7-0181C42CC3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7DD6-0B1C-4515-95BF-186E3853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A12C-31FD-48CF-AE47-A8A8AB25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D4E7-3473-4702-A520-F3FC800A35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12E39-0077-4521-8BBB-1D77639C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31E4-E2BB-4873-88B4-A59AD98F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FE9D4-85BF-4458-AAF5-1E2142D1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FB04B-1885-4995-8E2D-F9F87A22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D4D9-AAF8-4C51-B9C6-ABFBFF56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F64BE-6AD1-4765-AD5A-6C342DBC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3D25E-7BC5-4A8A-AC87-FD508A8E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0D0B1-2231-4C8D-9BD0-0B261B5E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62F0-7F78-4576-9002-2AB8446E3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onestopenglish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iv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estopenglish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Keith Ke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10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Do exercise 1 on the worksheet: label the dia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, match the parts of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he PPT template to practice talking about how an ox-bow lake is form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l.williams</cp:lastModifiedBy>
  <dcterms:modified xsi:type="dcterms:W3CDTF">2010-09-02T12:14:29Z</dcterms:modified>
  <cp:revision>46</cp:revision>
  <dc:subject/>
  <dc:title>  </dc:title>
</cp:coreProperties>
</file>