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png" ContentType="image/png"/>
  <Override PartName="/ppt/media/image8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WHOOSH.WAV" ContentType="audio/x-wav"/>
  <Override PartName="/ppt/media/image16.wmf" ContentType="image/x-wmf"/>
  <Override PartName="/ppt/media/image3.wmf" ContentType="image/x-wmf"/>
  <Override PartName="/ppt/media/image23.png" ContentType="image/png"/>
  <Override PartName="/ppt/media/LASER.WAV" ContentType="audio/x-wav"/>
  <Override PartName="/ppt/media/image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5.png" ContentType="image/png"/>
  <Override PartName="/ppt/media/image13.wmf" ContentType="image/x-wmf"/>
  <Override PartName="/ppt/media/image12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BAB2-3A1A-4289-AFF2-8E7C488E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165C-3ACE-4173-BCB1-C50FEEB5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EB18-67C0-4944-8B38-CE566E41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5AE3-0F6F-486B-A095-947F0A73F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CD3-DC92-4FF1-BCE0-B99576B83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663-9D0A-4F07-B9D1-D8511C113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FE5-FA18-45B6-9DF9-66E58AC02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D18-9ED5-48E6-935C-24D9FA90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4C55-6E83-4A4B-9555-1F4EA6D2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3640-6C9C-416E-B9FB-4E1ADAB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8EE2-74D7-495F-83F0-4D3C7555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0945-B3FC-4D14-90B8-D2CA2BED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55DD-AC52-4EB1-98F3-E076F6BD947B}" type="slidenum">
              <a:rPr b="0" lang="sl-SI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6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533520" y="508680"/>
            <a:ext cx="2971800" cy="58140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533520" y="1143000"/>
            <a:ext cx="4190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686160" y="1446840"/>
            <a:ext cx="1572120" cy="5814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WALK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038480" y="432360"/>
            <a:ext cx="4343400" cy="581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PLAY VOLLEYBA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228600" y="2285280"/>
            <a:ext cx="5867280" cy="5814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3300"/>
                </a:solidFill>
                <a:latin typeface="Times New Roman"/>
              </a:rPr>
              <a:t>LISTEN TO THE RADI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1600200" y="3253320"/>
            <a:ext cx="419112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3300"/>
                </a:solidFill>
                <a:latin typeface="Times New Roman"/>
              </a:rPr>
              <a:t>PLAY THE PIANO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838080" y="4775760"/>
            <a:ext cx="4343400" cy="5814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8" name="Text Box 13"/>
          <p:cNvSpPr/>
          <p:nvPr/>
        </p:nvSpPr>
        <p:spPr>
          <a:xfrm>
            <a:off x="4952880" y="403848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886200" y="5880960"/>
            <a:ext cx="4343400" cy="58140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GO TO SCHOO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0" name="Text Box 15"/>
          <p:cNvSpPr/>
          <p:nvPr/>
        </p:nvSpPr>
        <p:spPr>
          <a:xfrm>
            <a:off x="304920" y="5653440"/>
            <a:ext cx="1828800" cy="581400"/>
          </a:xfrm>
          <a:prstGeom prst="rect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6781680" y="3908520"/>
            <a:ext cx="1905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2" name="Rectangle 17"/>
          <p:cNvSpPr/>
          <p:nvPr/>
        </p:nvSpPr>
        <p:spPr>
          <a:xfrm>
            <a:off x="6249960" y="3351960"/>
            <a:ext cx="1468440" cy="581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2819520" y="1371240"/>
            <a:ext cx="594360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99ff33"/>
                </a:solidFill>
                <a:latin typeface="Times New Roman"/>
              </a:rPr>
              <a:t>DO HOMEWORK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4" name="Rectangle 19"/>
          <p:cNvSpPr/>
          <p:nvPr/>
        </p:nvSpPr>
        <p:spPr>
          <a:xfrm>
            <a:off x="5304960" y="4829760"/>
            <a:ext cx="3687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ff"/>
                </a:solidFill>
                <a:latin typeface="Times New Roman"/>
              </a:rPr>
              <a:t>REPAIR THE CA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6629400" y="2544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ff"/>
                </a:solidFill>
                <a:latin typeface="Times New Roman"/>
              </a:rPr>
              <a:t>READ</a:t>
            </a:r>
            <a:endParaRPr b="1" lang="en-US" sz="36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61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614600" cy="3809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457200" y="395928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4" name="AutoShape 38"/>
          <p:cNvSpPr/>
          <p:nvPr/>
        </p:nvSpPr>
        <p:spPr>
          <a:xfrm>
            <a:off x="5257800" y="274320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859440" y="3808800"/>
            <a:ext cx="6210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705720" y="44186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6019920" y="579024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 VIOLIN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8" name="Text Box 15"/>
          <p:cNvSpPr/>
          <p:nvPr/>
        </p:nvSpPr>
        <p:spPr>
          <a:xfrm>
            <a:off x="6477120" y="5104440"/>
            <a:ext cx="1590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9" name="AutoShape 25"/>
          <p:cNvSpPr/>
          <p:nvPr/>
        </p:nvSpPr>
        <p:spPr>
          <a:xfrm>
            <a:off x="2438280" y="0"/>
            <a:ext cx="3886200" cy="3657600"/>
          </a:xfrm>
          <a:prstGeom prst="triangle">
            <a:avLst>
              <a:gd name="adj" fmla="val 50000"/>
            </a:avLst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3048120" y="2513520"/>
            <a:ext cx="26668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cc3300"/>
                </a:solidFill>
                <a:latin typeface="Times New Roman"/>
              </a:rPr>
              <a:t>MR. BENSO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3886200" y="1904040"/>
            <a:ext cx="91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2" name="Text Box 29"/>
          <p:cNvSpPr/>
          <p:nvPr/>
        </p:nvSpPr>
        <p:spPr>
          <a:xfrm>
            <a:off x="3581280" y="3047040"/>
            <a:ext cx="1590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3" name="Text Box 30"/>
          <p:cNvSpPr/>
          <p:nvPr/>
        </p:nvSpPr>
        <p:spPr>
          <a:xfrm>
            <a:off x="3657600" y="1370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3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2"/>
          <p:cNvSpPr/>
          <p:nvPr/>
        </p:nvSpPr>
        <p:spPr>
          <a:xfrm rot="4549200">
            <a:off x="4745520" y="10080"/>
            <a:ext cx="3200400" cy="3192480"/>
          </a:xfrm>
          <a:prstGeom prst="parallelogram">
            <a:avLst>
              <a:gd name="adj" fmla="val 250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35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4038480" cy="3157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46400" y="365508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035320" y="1294200"/>
            <a:ext cx="2732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ANE AND MAR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4726080" y="684720"/>
            <a:ext cx="1145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251760" y="6847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5716800" y="1980000"/>
            <a:ext cx="14425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1" name="AutoShape 15"/>
          <p:cNvSpPr/>
          <p:nvPr/>
        </p:nvSpPr>
        <p:spPr>
          <a:xfrm rot="4549200">
            <a:off x="5482080" y="2823120"/>
            <a:ext cx="3200400" cy="3192480"/>
          </a:xfrm>
          <a:prstGeom prst="parallelogram">
            <a:avLst>
              <a:gd name="adj" fmla="val 25958"/>
            </a:avLst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5488560" y="342792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6784920" y="3427920"/>
            <a:ext cx="82224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5943600" y="4037400"/>
            <a:ext cx="2133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LISTEN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5943600" y="4723200"/>
            <a:ext cx="25909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TO MUSIC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9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Object 2" descr=""/>
          <p:cNvPicPr/>
          <p:nvPr/>
        </p:nvPicPr>
        <p:blipFill>
          <a:blip r:embed="rId1"/>
          <a:stretch/>
        </p:blipFill>
        <p:spPr>
          <a:xfrm>
            <a:off x="0" y="304920"/>
            <a:ext cx="6553080" cy="256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2899080" y="35784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0" y="3200400"/>
            <a:ext cx="2819520" cy="3276720"/>
          </a:xfrm>
          <a:prstGeom prst="pentagon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60080" y="4951800"/>
            <a:ext cx="1922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BLA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39880" y="37328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1145160" y="434232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730440" y="5599800"/>
            <a:ext cx="1366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324480" y="3200400"/>
            <a:ext cx="2819520" cy="3276720"/>
          </a:xfrm>
          <a:prstGeom prst="pentagon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7392960" y="3656520"/>
            <a:ext cx="62100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6956640" y="5637600"/>
            <a:ext cx="163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THE CAR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6815520" y="4951800"/>
            <a:ext cx="1922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EPAI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7461720" y="4266000"/>
            <a:ext cx="46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3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5"/>
          <p:cNvSpPr/>
          <p:nvPr/>
        </p:nvSpPr>
        <p:spPr>
          <a:xfrm>
            <a:off x="4952880" y="22860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59" name="Object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495600" cy="28400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4320" y="3655080"/>
            <a:ext cx="3623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095880" y="9896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E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5793120" y="379800"/>
            <a:ext cx="11455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7241040" y="37980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5791320" y="167544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5029200" y="2895480"/>
            <a:ext cx="3657600" cy="2133720"/>
          </a:xfrm>
          <a:prstGeom prst="hexagon">
            <a:avLst>
              <a:gd name="adj" fmla="val 4285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095880" y="3047040"/>
            <a:ext cx="13543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5488560" y="3656520"/>
            <a:ext cx="46872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172200" y="3656520"/>
            <a:ext cx="198108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ING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5791320" y="4266000"/>
            <a:ext cx="2133360" cy="4597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THE PIANO.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7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7"/>
          <p:cNvSpPr/>
          <p:nvPr/>
        </p:nvSpPr>
        <p:spPr>
          <a:xfrm>
            <a:off x="3962520" y="228600"/>
            <a:ext cx="472428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082680" cy="37339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3140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428000" y="989640"/>
            <a:ext cx="377892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LLY, FRED AND LUC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643640" y="37980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6718320" y="37980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5489640" y="1599120"/>
            <a:ext cx="144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7" name="AutoShape 12"/>
          <p:cNvSpPr/>
          <p:nvPr/>
        </p:nvSpPr>
        <p:spPr>
          <a:xfrm>
            <a:off x="4038480" y="2590920"/>
            <a:ext cx="4724640" cy="1981080"/>
          </a:xfrm>
          <a:prstGeom prst="roundRect">
            <a:avLst>
              <a:gd name="adj" fmla="val 30528"/>
            </a:avLst>
          </a:prstGeom>
          <a:solidFill>
            <a:srgbClr val="f22f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8" name="Text Box 13"/>
          <p:cNvSpPr/>
          <p:nvPr/>
        </p:nvSpPr>
        <p:spPr>
          <a:xfrm>
            <a:off x="5949000" y="2742120"/>
            <a:ext cx="104328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6251040" y="3275640"/>
            <a:ext cx="1602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AIT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5032440" y="3275640"/>
            <a:ext cx="822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177880" y="3885120"/>
            <a:ext cx="228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FOR THE BUS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4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5"/>
          <p:cNvSpPr/>
          <p:nvPr/>
        </p:nvSpPr>
        <p:spPr>
          <a:xfrm>
            <a:off x="5029200" y="22860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83" name="Object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444840" cy="31892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318600" y="3747240"/>
            <a:ext cx="31968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COO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5943600" y="1599120"/>
            <a:ext cx="121752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JUN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5029200" y="1599120"/>
            <a:ext cx="768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031000" y="989640"/>
            <a:ext cx="1145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5029200" y="2208600"/>
            <a:ext cx="296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89" name="AutoShape 9"/>
          <p:cNvSpPr/>
          <p:nvPr/>
        </p:nvSpPr>
        <p:spPr>
          <a:xfrm>
            <a:off x="5029200" y="3124080"/>
            <a:ext cx="4114800" cy="2590920"/>
          </a:xfrm>
          <a:prstGeom prst="rtTriangle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0" name="Text Box 10"/>
          <p:cNvSpPr/>
          <p:nvPr/>
        </p:nvSpPr>
        <p:spPr>
          <a:xfrm>
            <a:off x="5029200" y="3808800"/>
            <a:ext cx="1143000" cy="459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5029200" y="4494600"/>
            <a:ext cx="1523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2" name="Text Box 12"/>
          <p:cNvSpPr/>
          <p:nvPr/>
        </p:nvSpPr>
        <p:spPr>
          <a:xfrm>
            <a:off x="5029200" y="5180400"/>
            <a:ext cx="274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SLEEP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0"/>
          <p:cNvSpPr/>
          <p:nvPr/>
        </p:nvSpPr>
        <p:spPr>
          <a:xfrm>
            <a:off x="304920" y="213372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838080" y="2361240"/>
            <a:ext cx="175284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HA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4191120" y="2377080"/>
            <a:ext cx="22860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BIRD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905120" y="3199680"/>
            <a:ext cx="274320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DOING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7" name="Text Box 16"/>
          <p:cNvSpPr/>
          <p:nvPr/>
        </p:nvSpPr>
        <p:spPr>
          <a:xfrm>
            <a:off x="2743200" y="236592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8" name="AutoShape 17"/>
          <p:cNvSpPr/>
          <p:nvPr/>
        </p:nvSpPr>
        <p:spPr>
          <a:xfrm>
            <a:off x="2438280" y="4572000"/>
            <a:ext cx="6400800" cy="2057400"/>
          </a:xfrm>
          <a:prstGeom prst="foldedCorner">
            <a:avLst>
              <a:gd name="adj" fmla="val 125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3886200" y="4701240"/>
            <a:ext cx="1219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IT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5410080" y="4727880"/>
            <a:ext cx="1143000" cy="581400"/>
          </a:xfrm>
          <a:prstGeom prst="rect">
            <a:avLst/>
          </a:prstGeom>
          <a:solidFill>
            <a:srgbClr val="3333cc"/>
          </a:solidFill>
          <a:ln w="936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4038480" y="5539320"/>
            <a:ext cx="3505320" cy="5814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FLY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02" name="Object 23" descr=""/>
          <p:cNvPicPr/>
          <p:nvPr/>
        </p:nvPicPr>
        <p:blipFill>
          <a:blip r:embed="rId1"/>
          <a:stretch/>
        </p:blipFill>
        <p:spPr>
          <a:xfrm>
            <a:off x="9144000" y="0"/>
            <a:ext cx="2133720" cy="1973160"/>
          </a:xfrm>
          <a:prstGeom prst="rect">
            <a:avLst/>
          </a:prstGeom>
          <a:ln w="0">
            <a:noFill/>
          </a:ln>
        </p:spPr>
      </p:pic>
      <p:pic>
        <p:nvPicPr>
          <p:cNvPr id="203" name="Object 24" descr=""/>
          <p:cNvPicPr/>
          <p:nvPr/>
        </p:nvPicPr>
        <p:blipFill>
          <a:blip r:embed="rId2"/>
          <a:stretch/>
        </p:blipFill>
        <p:spPr>
          <a:xfrm>
            <a:off x="10820520" y="0"/>
            <a:ext cx="2133360" cy="1973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watching-tv"/>
          <p:cNvPicPr/>
          <p:nvPr/>
        </p:nvPicPr>
        <p:blipFill>
          <a:blip r:embed="rId1"/>
          <a:stretch/>
        </p:blipFill>
        <p:spPr>
          <a:xfrm>
            <a:off x="6810480" y="0"/>
            <a:ext cx="2333520" cy="2125800"/>
          </a:xfrm>
          <a:prstGeom prst="rect">
            <a:avLst/>
          </a:prstGeom>
          <a:ln w="0">
            <a:noFill/>
          </a:ln>
        </p:spPr>
      </p:pic>
      <p:pic>
        <p:nvPicPr>
          <p:cNvPr id="205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ROLLER-BLADIG"/>
          <p:cNvPicPr/>
          <p:nvPr/>
        </p:nvPicPr>
        <p:blipFill>
          <a:blip r:embed="rId3"/>
          <a:stretch/>
        </p:blipFill>
        <p:spPr>
          <a:xfrm>
            <a:off x="7238880" y="3809880"/>
            <a:ext cx="1636920" cy="26672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6"/>
          <p:cNvSpPr/>
          <p:nvPr/>
        </p:nvSpPr>
        <p:spPr>
          <a:xfrm>
            <a:off x="0" y="24897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Times New Roman"/>
              </a:rPr>
              <a:t>JACK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300720" y="274212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LICE AND BEN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562720" y="502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MAND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210" name="Group 23"/>
          <p:cNvGrpSpPr/>
          <p:nvPr/>
        </p:nvGrpSpPr>
        <p:grpSpPr>
          <a:xfrm>
            <a:off x="2195640" y="281160"/>
            <a:ext cx="5181480" cy="6172200"/>
            <a:chOff x="2195640" y="281160"/>
            <a:chExt cx="5181480" cy="6172200"/>
          </a:xfrm>
        </p:grpSpPr>
        <p:sp>
          <p:nvSpPr>
            <p:cNvPr id="211" name="AutoShape 24"/>
            <p:cNvSpPr/>
            <p:nvPr/>
          </p:nvSpPr>
          <p:spPr>
            <a:xfrm>
              <a:off x="2195640" y="281160"/>
              <a:ext cx="5181480" cy="6172200"/>
            </a:xfrm>
            <a:prstGeom prst="irregularSeal2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2" name="Text Box 25"/>
            <p:cNvSpPr/>
            <p:nvPr/>
          </p:nvSpPr>
          <p:spPr>
            <a:xfrm>
              <a:off x="3676680" y="2109240"/>
              <a:ext cx="19616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3" name="Text Box 26"/>
            <p:cNvSpPr/>
            <p:nvPr/>
          </p:nvSpPr>
          <p:spPr>
            <a:xfrm>
              <a:off x="3840120" y="2795040"/>
              <a:ext cx="156960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4" name="Text Box 27"/>
            <p:cNvSpPr/>
            <p:nvPr/>
          </p:nvSpPr>
          <p:spPr>
            <a:xfrm>
              <a:off x="3601800" y="3480840"/>
              <a:ext cx="1884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15" name="Text Box 28"/>
            <p:cNvSpPr/>
            <p:nvPr/>
          </p:nvSpPr>
          <p:spPr>
            <a:xfrm>
              <a:off x="3357360" y="4090680"/>
              <a:ext cx="2433240" cy="70344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99ff33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8"/>
          <p:cNvSpPr/>
          <p:nvPr/>
        </p:nvSpPr>
        <p:spPr>
          <a:xfrm>
            <a:off x="3733920" y="53244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21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59080" cy="30099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2209680" y="258840"/>
            <a:ext cx="182880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133720" y="380520"/>
            <a:ext cx="167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Jack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3733920" y="304200"/>
            <a:ext cx="502920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playing football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ROLLER-BLADIG"/>
          <p:cNvPicPr/>
          <p:nvPr/>
        </p:nvPicPr>
        <p:blipFill>
          <a:blip r:embed="rId1"/>
          <a:stretch/>
        </p:blipFill>
        <p:spPr>
          <a:xfrm>
            <a:off x="7010280" y="3886200"/>
            <a:ext cx="1636920" cy="2666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9"/>
          <p:cNvSpPr/>
          <p:nvPr/>
        </p:nvSpPr>
        <p:spPr>
          <a:xfrm>
            <a:off x="304920" y="47304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00"/>
                </a:solidFill>
                <a:latin typeface="Times New Roman"/>
              </a:rPr>
              <a:t>Mand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133720" y="48758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. . 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4" name="Text Box 12"/>
          <p:cNvSpPr/>
          <p:nvPr/>
        </p:nvSpPr>
        <p:spPr>
          <a:xfrm>
            <a:off x="2362320" y="4730400"/>
            <a:ext cx="4572000" cy="82512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0000"/>
                </a:solidFill>
                <a:latin typeface="Times New Roman"/>
              </a:rPr>
              <a:t>is roller-blad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990720" y="1113840"/>
            <a:ext cx="7162560" cy="375084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0" spc="-1" strike="noStrike">
                <a:solidFill>
                  <a:srgbClr val="ffff00"/>
                </a:solidFill>
                <a:latin typeface="Times New Roman"/>
              </a:rPr>
              <a:t>DOING THINGS</a:t>
            </a:r>
            <a:endParaRPr b="1" lang="en-US" sz="120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watching-tv"/>
          <p:cNvPicPr/>
          <p:nvPr/>
        </p:nvPicPr>
        <p:blipFill>
          <a:blip r:embed="rId1"/>
          <a:stretch/>
        </p:blipFill>
        <p:spPr>
          <a:xfrm>
            <a:off x="6400800" y="304920"/>
            <a:ext cx="2333520" cy="21254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5"/>
          <p:cNvSpPr/>
          <p:nvPr/>
        </p:nvSpPr>
        <p:spPr>
          <a:xfrm>
            <a:off x="-228600" y="532800"/>
            <a:ext cx="449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Ben and Alic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191120" y="5774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962520" y="532800"/>
            <a:ext cx="182880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ar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04920" y="1601280"/>
            <a:ext cx="4038480" cy="82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6600"/>
                </a:solidFill>
                <a:latin typeface="Times New Roman"/>
              </a:rPr>
              <a:t>watching TV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6"/>
          <p:cNvGrpSpPr/>
          <p:nvPr/>
        </p:nvGrpSpPr>
        <p:grpSpPr>
          <a:xfrm>
            <a:off x="2286000" y="0"/>
            <a:ext cx="5181480" cy="6172200"/>
            <a:chOff x="2286000" y="0"/>
            <a:chExt cx="5181480" cy="6172200"/>
          </a:xfrm>
        </p:grpSpPr>
        <p:sp>
          <p:nvSpPr>
            <p:cNvPr id="231" name="AutoShape 3"/>
            <p:cNvSpPr/>
            <p:nvPr/>
          </p:nvSpPr>
          <p:spPr>
            <a:xfrm>
              <a:off x="2286000" y="0"/>
              <a:ext cx="5181480" cy="6172200"/>
            </a:xfrm>
            <a:prstGeom prst="irregularSeal2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2" name="Text Box 11"/>
            <p:cNvSpPr/>
            <p:nvPr/>
          </p:nvSpPr>
          <p:spPr>
            <a:xfrm>
              <a:off x="3524400" y="2108880"/>
              <a:ext cx="19620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WHAT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3" name="Text Box 12"/>
            <p:cNvSpPr/>
            <p:nvPr/>
          </p:nvSpPr>
          <p:spPr>
            <a:xfrm>
              <a:off x="3687840" y="2794680"/>
              <a:ext cx="156996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ARE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4" name="Text Box 13"/>
            <p:cNvSpPr/>
            <p:nvPr/>
          </p:nvSpPr>
          <p:spPr>
            <a:xfrm>
              <a:off x="3449520" y="3480480"/>
              <a:ext cx="1884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THEY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235" name="Text Box 14"/>
            <p:cNvSpPr/>
            <p:nvPr/>
          </p:nvSpPr>
          <p:spPr>
            <a:xfrm>
              <a:off x="3205080" y="4090320"/>
              <a:ext cx="2433600" cy="703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4000" spc="-1" strike="noStrike">
                  <a:solidFill>
                    <a:srgbClr val="000066"/>
                  </a:solidFill>
                  <a:latin typeface="Times New Roman"/>
                </a:rPr>
                <a:t>DOING?</a:t>
              </a:r>
              <a:endParaRPr b="1" lang="en-US" sz="40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pic>
        <p:nvPicPr>
          <p:cNvPr id="236" name="Object 17" descr=""/>
          <p:cNvPicPr/>
          <p:nvPr/>
        </p:nvPicPr>
        <p:blipFill>
          <a:blip r:embed="rId1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8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38" name="Object 19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pic>
        <p:nvPicPr>
          <p:cNvPr id="239" name="Object 20" descr=""/>
          <p:cNvPicPr/>
          <p:nvPr/>
        </p:nvPicPr>
        <p:blipFill>
          <a:blip r:embed="rId4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21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1" name="Text Box 22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2" name="Text Box 23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3" name="Text Box 24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Object 9" descr=""/>
          <p:cNvPicPr/>
          <p:nvPr/>
        </p:nvPicPr>
        <p:blipFill>
          <a:blip r:embed="rId2"/>
          <a:stretch/>
        </p:blipFill>
        <p:spPr>
          <a:xfrm>
            <a:off x="0" y="4511520"/>
            <a:ext cx="3062160" cy="234648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10" descr=""/>
          <p:cNvPicPr/>
          <p:nvPr/>
        </p:nvPicPr>
        <p:blipFill>
          <a:blip r:embed="rId3"/>
          <a:stretch/>
        </p:blipFill>
        <p:spPr>
          <a:xfrm>
            <a:off x="7086600" y="0"/>
            <a:ext cx="1835280" cy="186228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13"/>
          <p:cNvSpPr/>
          <p:nvPr/>
        </p:nvSpPr>
        <p:spPr>
          <a:xfrm>
            <a:off x="7467480" y="1791360"/>
            <a:ext cx="129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MRS. BELL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7" name="Text Box 14"/>
          <p:cNvSpPr/>
          <p:nvPr/>
        </p:nvSpPr>
        <p:spPr>
          <a:xfrm>
            <a:off x="1981080" y="527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6600"/>
                </a:solidFill>
                <a:latin typeface="Times New Roman"/>
              </a:rPr>
              <a:t>JO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28600" y="42480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Mrs. Bell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3048120" y="456840"/>
            <a:ext cx="99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ff33"/>
                </a:solidFill>
                <a:latin typeface="Times New Roman"/>
              </a:rPr>
              <a:t>. . 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3048120" y="456840"/>
            <a:ext cx="29718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is talking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1066680" y="156780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996600"/>
                </a:solidFill>
                <a:latin typeface="Times New Roman"/>
              </a:rPr>
              <a:t>on the phone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2" name="Text Box 20"/>
          <p:cNvSpPr/>
          <p:nvPr/>
        </p:nvSpPr>
        <p:spPr>
          <a:xfrm>
            <a:off x="3962520" y="370152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Joe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5105520" y="373320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4" name="Text Box 22"/>
          <p:cNvSpPr/>
          <p:nvPr/>
        </p:nvSpPr>
        <p:spPr>
          <a:xfrm>
            <a:off x="5105520" y="3657240"/>
            <a:ext cx="36576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006699"/>
                </a:solidFill>
                <a:latin typeface="Times New Roman"/>
              </a:rPr>
              <a:t>is ski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1533600" cy="1801800"/>
          </a:xfrm>
          <a:prstGeom prst="rect">
            <a:avLst/>
          </a:prstGeom>
          <a:ln w="0">
            <a:noFill/>
          </a:ln>
        </p:spPr>
      </p:pic>
      <p:pic>
        <p:nvPicPr>
          <p:cNvPr id="256" name="Object 11" descr=""/>
          <p:cNvPicPr/>
          <p:nvPr/>
        </p:nvPicPr>
        <p:blipFill>
          <a:blip r:embed="rId3"/>
          <a:stretch/>
        </p:blipFill>
        <p:spPr>
          <a:xfrm>
            <a:off x="6507000" y="3962520"/>
            <a:ext cx="2637000" cy="289548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12"/>
          <p:cNvSpPr/>
          <p:nvPr/>
        </p:nvSpPr>
        <p:spPr>
          <a:xfrm>
            <a:off x="228600" y="2110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0000"/>
                </a:solidFill>
                <a:latin typeface="Times New Roman"/>
              </a:rPr>
              <a:t>ROY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4419720" y="5790240"/>
            <a:ext cx="19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996600"/>
                </a:solidFill>
                <a:latin typeface="Times New Roman"/>
              </a:rPr>
              <a:t>MR. FOSTER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1905120" y="8820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Roy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57600" y="91404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1" name="Text Box 18"/>
          <p:cNvSpPr/>
          <p:nvPr/>
        </p:nvSpPr>
        <p:spPr>
          <a:xfrm>
            <a:off x="3733920" y="920160"/>
            <a:ext cx="335268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studying</a:t>
            </a: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2" name="Text Box 19"/>
          <p:cNvSpPr/>
          <p:nvPr/>
        </p:nvSpPr>
        <p:spPr>
          <a:xfrm>
            <a:off x="304920" y="388584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Mr. Foster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3" name="Text Box 20"/>
          <p:cNvSpPr/>
          <p:nvPr/>
        </p:nvSpPr>
        <p:spPr>
          <a:xfrm>
            <a:off x="3657600" y="39682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. . . 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4" name="Text Box 21"/>
          <p:cNvSpPr/>
          <p:nvPr/>
        </p:nvSpPr>
        <p:spPr>
          <a:xfrm>
            <a:off x="3733920" y="3968280"/>
            <a:ext cx="2743200" cy="8251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800" spc="-1" strike="noStrike">
                <a:solidFill>
                  <a:srgbClr val="ff0000"/>
                </a:solidFill>
                <a:latin typeface="Times New Roman"/>
              </a:rPr>
              <a:t>is fishing.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304920" y="22788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ff00"/>
                </a:solidFill>
                <a:latin typeface="Times New Roman"/>
              </a:rPr>
              <a:t>IS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sl-SI" sz="3200" spc="-1" strike="noStrike">
                <a:solidFill>
                  <a:srgbClr val="006600"/>
                </a:solidFill>
                <a:latin typeface="Times New Roman"/>
              </a:rPr>
              <a:t>AM</a:t>
            </a:r>
            <a:r>
              <a:rPr b="1" lang="sl-SI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sl-SI" sz="3200" spc="-1" strike="noStrike">
                <a:solidFill>
                  <a:srgbClr val="d60093"/>
                </a:solidFill>
                <a:latin typeface="Times New Roman"/>
              </a:rPr>
              <a:t>ARE</a:t>
            </a: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0" y="1341360"/>
            <a:ext cx="84582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I                  listening to the teache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Sam                  playing with a toy-car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Julie and Ann               writing a note to Fred. 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dog                 waiting for m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Harry and John                reading a magazine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y parents                 wor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Times New Roman"/>
              </a:rPr>
              <a:t>Mrs. Green                   cooking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1009800" y="1424520"/>
            <a:ext cx="8953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am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2819520" y="502848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1371600" y="2132640"/>
            <a:ext cx="106524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0" name="Rectangle 13"/>
          <p:cNvSpPr/>
          <p:nvPr/>
        </p:nvSpPr>
        <p:spPr>
          <a:xfrm>
            <a:off x="2057400" y="3504240"/>
            <a:ext cx="83808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3353400" y="426636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3124800" y="2818440"/>
            <a:ext cx="74772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are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819520" y="5790240"/>
            <a:ext cx="914400" cy="58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1523880" y="4564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cc0099"/>
                </a:solidFill>
                <a:latin typeface="Times New Roman"/>
              </a:rPr>
              <a:t>MAKE SENTENCES.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0" y="1108080"/>
            <a:ext cx="83818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ohn                                 . (SWIM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Mary                                a letter. (WRIT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ulie and Sue                                 the kitchen. (CLEAN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Gary                               a shower. (HAVE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Jill                                  up. (WASH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We                                    . (STUDY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Times New Roman"/>
              </a:rPr>
              <a:t>The phone                                    . (RING)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1523880" y="1082520"/>
            <a:ext cx="3200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523880" y="11422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swimm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8" name="Text Box 6"/>
          <p:cNvSpPr/>
          <p:nvPr/>
        </p:nvSpPr>
        <p:spPr>
          <a:xfrm>
            <a:off x="1600200" y="19040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rit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666880" y="2589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clean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295280" y="380916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hav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914400" y="45712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wash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1295280" y="52570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are study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2438280" y="601884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cc"/>
                </a:solidFill>
                <a:latin typeface="Times New Roman"/>
              </a:rPr>
              <a:t>is ringing</a:t>
            </a: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0" y="176760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8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9900"/>
                </a:solidFill>
                <a:latin typeface="American Classic"/>
              </a:rPr>
              <a:t>Are you listen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0" y="23774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996633"/>
                </a:solidFill>
                <a:latin typeface="American Classic"/>
              </a:rPr>
              <a:t>Are you study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0" y="37490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800000"/>
                </a:solidFill>
                <a:latin typeface="American Classic"/>
              </a:rPr>
              <a:t>Is the bell ring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7" name="Text Box 10"/>
          <p:cNvSpPr/>
          <p:nvPr/>
        </p:nvSpPr>
        <p:spPr>
          <a:xfrm>
            <a:off x="0" y="3063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8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000" spc="-1" strike="noStrike">
                <a:solidFill>
                  <a:srgbClr val="cc3300"/>
                </a:solidFill>
                <a:latin typeface="American Classic"/>
              </a:rPr>
              <a:t>Is your teacher talking?</a:t>
            </a:r>
            <a:endParaRPr b="1" lang="en-US" sz="40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288" name="Text Box 11"/>
          <p:cNvSpPr/>
          <p:nvPr/>
        </p:nvSpPr>
        <p:spPr>
          <a:xfrm>
            <a:off x="0" y="396360"/>
            <a:ext cx="9144000" cy="8251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4800" spc="-1" strike="noStrike">
                <a:solidFill>
                  <a:srgbClr val="ff0000"/>
                </a:solidFill>
                <a:latin typeface="Times New Roman"/>
              </a:rPr>
              <a:t>And what are you doing now?</a:t>
            </a:r>
            <a:endParaRPr b="1" lang="en-US" sz="4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nodeType="clickEffect" fill="hold">
                      <p:stCondLst>
                        <p:cond delay="0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9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-685800" y="1065960"/>
            <a:ext cx="106678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9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500" spc="-1" strike="noStrike">
                <a:solidFill>
                  <a:srgbClr val="99ff33"/>
                </a:solidFill>
                <a:latin typeface="Times New Roman"/>
              </a:rPr>
              <a:t>NOW</a:t>
            </a:r>
            <a:endParaRPr b="1" lang="en-US" sz="305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304920"/>
          <a:ext cx="5135400" cy="65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04920"/>
                    <a:ext cx="51354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5"/>
          <p:cNvSpPr/>
          <p:nvPr/>
        </p:nvSpPr>
        <p:spPr>
          <a:xfrm>
            <a:off x="4191120" y="304920"/>
            <a:ext cx="472428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0000"/>
                </a:solidFill>
                <a:latin typeface="Times New Roman"/>
              </a:rPr>
              <a:t>WHAT IS BEN DOING?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727440" y="2819520"/>
            <a:ext cx="8445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HE</a:t>
            </a:r>
            <a:r>
              <a:rPr b="1" lang="sl-SI" sz="2400" spc="-1" strike="noStrike">
                <a:solidFill>
                  <a:srgbClr val="99cc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495680" y="2819520"/>
            <a:ext cx="46483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66ff"/>
                </a:solidFill>
                <a:latin typeface="Times New Roman"/>
              </a:rPr>
              <a:t>IS PLAYING FOOTBALL.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410080" y="4210200"/>
            <a:ext cx="3733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800000"/>
                </a:solidFill>
                <a:latin typeface="Times New Roman"/>
              </a:rPr>
              <a:t>REPAIR THE CAR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1"/>
          <p:cNvSpPr/>
          <p:nvPr/>
        </p:nvSpPr>
        <p:spPr>
          <a:xfrm>
            <a:off x="2895480" y="1981080"/>
            <a:ext cx="6248520" cy="1752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5" name="Rectangle 20"/>
          <p:cNvSpPr/>
          <p:nvPr/>
        </p:nvSpPr>
        <p:spPr>
          <a:xfrm>
            <a:off x="2895480" y="228600"/>
            <a:ext cx="6248520" cy="1676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5257800" y="2895480"/>
            <a:ext cx="3276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VOLLEYBALL 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7" name="Rectangle 18"/>
          <p:cNvSpPr/>
          <p:nvPr/>
        </p:nvSpPr>
        <p:spPr>
          <a:xfrm>
            <a:off x="4267080" y="2209680"/>
            <a:ext cx="2286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 PLAY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4572000" y="609480"/>
            <a:ext cx="14479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2971800" y="1219320"/>
            <a:ext cx="19810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80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0" name="Object 2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2438280" cy="23558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2971800" y="609480"/>
            <a:ext cx="14479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6248520" y="609480"/>
            <a:ext cx="289548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LUCY AND RO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380880" y="3886200"/>
            <a:ext cx="335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cc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75760" y="2208960"/>
            <a:ext cx="1125720" cy="520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1" lang="en-US" sz="28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6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0"/>
          <p:cNvSpPr/>
          <p:nvPr/>
        </p:nvSpPr>
        <p:spPr>
          <a:xfrm>
            <a:off x="3200400" y="2133720"/>
            <a:ext cx="5943600" cy="1447560"/>
          </a:xfrm>
          <a:custGeom>
            <a:avLst/>
            <a:gdLst>
              <a:gd name="textAreaLeft" fmla="*/ 170280 w 5943600"/>
              <a:gd name="textAreaRight" fmla="*/ 5773320 w 5943600"/>
              <a:gd name="textAreaTop" fmla="*/ 170280 h 1447560"/>
              <a:gd name="textAreaBottom" fmla="*/ 1277280 h 1447560"/>
            </a:gdLst>
            <a:ahLst/>
            <a:rect l="textAreaLeft" t="textAreaTop" r="textAreaRight" b="textAreaBottom"/>
            <a:pathLst>
              <a:path w="8867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72" y="21600"/>
                </a:lnTo>
                <a:arcTo wR="3600" hR="3600" stAng="10800000" swAng="5400000"/>
                <a:lnTo>
                  <a:pt x="88672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6" name="AutoShape 19"/>
          <p:cNvSpPr/>
          <p:nvPr/>
        </p:nvSpPr>
        <p:spPr>
          <a:xfrm>
            <a:off x="2590920" y="380880"/>
            <a:ext cx="5943600" cy="1447920"/>
          </a:xfrm>
          <a:custGeom>
            <a:avLst/>
            <a:gdLst>
              <a:gd name="textAreaLeft" fmla="*/ 170640 w 5943600"/>
              <a:gd name="textAreaRight" fmla="*/ 5772960 w 5943600"/>
              <a:gd name="textAreaTop" fmla="*/ 170640 h 1447920"/>
              <a:gd name="textAreaBottom" fmla="*/ 1277280 h 1447920"/>
            </a:gdLst>
            <a:ahLst/>
            <a:rect l="textAreaLeft" t="textAreaTop" r="textAreaRight" b="textAreaBottom"/>
            <a:pathLst>
              <a:path w="8865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85050" y="21600"/>
                </a:lnTo>
                <a:arcTo wR="3600" hR="3600" stAng="10800000" swAng="5400000"/>
                <a:lnTo>
                  <a:pt x="88650" y="3600"/>
                </a:lnTo>
                <a:arcTo wR="3600" hR="3600" stAng="5400000" swAng="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77" name="Object 2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41148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320" y="420696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726440" y="913320"/>
            <a:ext cx="190728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MR. WHIT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21320" y="913320"/>
            <a:ext cx="11455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116960" y="913320"/>
            <a:ext cx="46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6859800" y="913320"/>
            <a:ext cx="136656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9880" y="2589840"/>
            <a:ext cx="62388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4955040" y="2589840"/>
            <a:ext cx="468720" cy="4597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5867280" y="2589840"/>
            <a:ext cx="175284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RUNN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18"/>
          <p:cNvSpPr/>
          <p:nvPr/>
        </p:nvSpPr>
        <p:spPr>
          <a:xfrm>
            <a:off x="2819520" y="2438280"/>
            <a:ext cx="6095880" cy="1905120"/>
          </a:xfrm>
          <a:prstGeom prst="flowChartPunchedTap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87" name="Object 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2306880" cy="3124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4320" y="3959280"/>
            <a:ext cx="3623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JOG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>
            <a:off x="2819520" y="228600"/>
            <a:ext cx="6095880" cy="1905120"/>
          </a:xfrm>
          <a:prstGeom prst="flowChartPunchedTap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grpSp>
        <p:nvGrpSpPr>
          <p:cNvPr id="90" name="Group 16"/>
          <p:cNvGrpSpPr/>
          <p:nvPr/>
        </p:nvGrpSpPr>
        <p:grpSpPr>
          <a:xfrm>
            <a:off x="2897280" y="761040"/>
            <a:ext cx="5844240" cy="1145520"/>
            <a:chOff x="2897280" y="761040"/>
            <a:chExt cx="5844240" cy="1145520"/>
          </a:xfrm>
        </p:grpSpPr>
        <p:sp>
          <p:nvSpPr>
            <p:cNvPr id="91" name="Text Box 4"/>
            <p:cNvSpPr/>
            <p:nvPr/>
          </p:nvSpPr>
          <p:spPr>
            <a:xfrm>
              <a:off x="5188320" y="761040"/>
              <a:ext cx="3553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66"/>
                  </a:solidFill>
                  <a:latin typeface="Times New Roman"/>
                </a:rPr>
                <a:t>MR. AND MRS. DAVIES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2" name="Text Box 5"/>
            <p:cNvSpPr/>
            <p:nvPr/>
          </p:nvSpPr>
          <p:spPr>
            <a:xfrm>
              <a:off x="2897280" y="761040"/>
              <a:ext cx="11455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WHAT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3" name="Text Box 6"/>
            <p:cNvSpPr/>
            <p:nvPr/>
          </p:nvSpPr>
          <p:spPr>
            <a:xfrm>
              <a:off x="4194360" y="761040"/>
              <a:ext cx="8222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0000ff"/>
                  </a:solidFill>
                  <a:latin typeface="Times New Roman"/>
                </a:rPr>
                <a:t>ARE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  <p:sp>
          <p:nvSpPr>
            <p:cNvPr id="94" name="Text Box 7"/>
            <p:cNvSpPr/>
            <p:nvPr/>
          </p:nvSpPr>
          <p:spPr>
            <a:xfrm>
              <a:off x="3657600" y="1446840"/>
              <a:ext cx="13701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ff0000"/>
                  </a:solidFill>
                  <a:latin typeface="Times New Roman"/>
                </a:rPr>
                <a:t>DOING?</a:t>
              </a:r>
              <a:endParaRPr b="1" lang="en-US" sz="2400" spc="-1" strike="noStrike">
                <a:solidFill>
                  <a:srgbClr val="99ff33"/>
                </a:solidFill>
                <a:latin typeface="Times New Roman"/>
              </a:endParaRPr>
            </a:p>
          </p:txBody>
        </p:sp>
      </p:grpSp>
      <p:sp>
        <p:nvSpPr>
          <p:cNvPr id="95" name="Text Box 8"/>
          <p:cNvSpPr/>
          <p:nvPr/>
        </p:nvSpPr>
        <p:spPr>
          <a:xfrm>
            <a:off x="3050280" y="2894400"/>
            <a:ext cx="1043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66"/>
                </a:solidFill>
                <a:latin typeface="Times New Roman"/>
              </a:rPr>
              <a:t>THE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346640" y="2894400"/>
            <a:ext cx="8222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00"/>
                </a:solidFill>
                <a:latin typeface="Times New Roman"/>
              </a:rPr>
              <a:t>AR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094640" y="3427920"/>
            <a:ext cx="39481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JOGGING AND TALK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3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15"/>
          <p:cNvSpPr/>
          <p:nvPr/>
        </p:nvSpPr>
        <p:spPr>
          <a:xfrm>
            <a:off x="3429000" y="1905120"/>
            <a:ext cx="5715000" cy="1600200"/>
          </a:xfrm>
          <a:prstGeom prst="ellips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429000" y="0"/>
            <a:ext cx="5715000" cy="16002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2386080" cy="33512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232200" y="3807000"/>
            <a:ext cx="31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IT FOR THE BU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WATCH  TV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U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THE VIOLIN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PLAY FOOT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888520" y="608400"/>
            <a:ext cx="1346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MANDY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618000" y="608400"/>
            <a:ext cx="118260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5107680" y="60840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7545240" y="608400"/>
            <a:ext cx="1370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4497480" y="2513520"/>
            <a:ext cx="7902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ff"/>
                </a:solidFill>
                <a:latin typeface="Times New Roman"/>
              </a:rPr>
              <a:t>S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022080" y="2513520"/>
            <a:ext cx="46872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6937920" y="2513520"/>
            <a:ext cx="16941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READING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200400" y="380880"/>
            <a:ext cx="5715000" cy="99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pic>
        <p:nvPicPr>
          <p:cNvPr id="110" name="Object 2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3006720" cy="24620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0" y="3655080"/>
            <a:ext cx="4267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THE HOOVER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DO HOMEWOR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GO TO SCHOO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WALK AND TAL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VOLLEYBALL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LISTEN TO THE RADI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imes New Roman"/>
              </a:rPr>
              <a:t>PLAY THE PIANO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641200" y="608400"/>
            <a:ext cx="976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RICK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735720" y="608400"/>
            <a:ext cx="1145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WHAT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031360" y="60840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6745680" y="608400"/>
            <a:ext cx="1442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 ?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200400" y="2057400"/>
            <a:ext cx="571500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582720" y="2284920"/>
            <a:ext cx="6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Times New Roman"/>
              </a:rPr>
              <a:t>HE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4345560" y="2284920"/>
            <a:ext cx="4687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4876920" y="2284920"/>
            <a:ext cx="121752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DOING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6173640" y="2284920"/>
            <a:ext cx="70668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IS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3581280" y="2818440"/>
            <a:ext cx="2223000" cy="45972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99ff33"/>
                </a:solidFill>
                <a:latin typeface="Times New Roman"/>
              </a:rPr>
              <a:t>HOMEWORK.</a:t>
            </a:r>
            <a:endParaRPr b="1" lang="en-US" sz="2400" spc="-1" strike="noStrike">
              <a:solidFill>
                <a:srgbClr val="99ff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5T18:59:38Z</dcterms:created>
  <dc:creator>Danica</dc:creator>
  <dc:description/>
  <dc:language>en-US</dc:language>
  <cp:lastModifiedBy>Dan Humm Soriano</cp:lastModifiedBy>
  <dcterms:modified xsi:type="dcterms:W3CDTF">2020-10-05T09:59:29Z</dcterms:modified>
  <cp:revision>10</cp:revision>
  <dc:subject/>
  <dc:title>No Slide Title</dc:title>
</cp:coreProperties>
</file>