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png" ContentType="image/png"/>
  <Override PartName="/ppt/media/image8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WHOOSH.WAV" ContentType="audio/x-wav"/>
  <Override PartName="/ppt/media/image16.wmf" ContentType="image/x-wmf"/>
  <Override PartName="/ppt/media/image3.wmf" ContentType="image/x-wmf"/>
  <Override PartName="/ppt/media/image23.png" ContentType="image/png"/>
  <Override PartName="/ppt/media/LASER.WAV" ContentType="audio/x-wav"/>
  <Override PartName="/ppt/media/image4.wmf" ContentType="image/x-wmf"/>
  <Override PartName="/ppt/media/image22.png" ContentType="image/png"/>
  <Override PartName="/ppt/media/image21.jpeg" ContentType="image/jpeg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5.png" ContentType="image/png"/>
  <Override PartName="/ppt/media/image13.wmf" ContentType="image/x-wmf"/>
  <Override PartName="/ppt/media/image12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2250-16CC-48BC-8A6A-02C4E9195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63E3-3470-451F-88BC-311549C6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86BC-6E8A-4B67-BCDF-ABAD20A37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87E0-E7E0-4767-849E-BB00F4769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F786-DF9E-42F7-B941-C74EBC66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E1B8-0FC0-4FC3-821C-3FABF11A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3916-0CD5-41C0-B448-DC1DD358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2EF1-FFEA-4947-A006-FCAD8E2F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F5BF-C523-4559-AFF1-FDD93270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C69C-C3BC-40C5-9881-B5F0CBA1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15DE-E28D-44E6-B5A8-A85B3C0B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1687-B41B-4FCA-B9D8-A3DBBB6F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A282-3309-488A-96F0-295A03C3B184}" type="slidenum"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6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533520" y="508680"/>
            <a:ext cx="2971800" cy="5814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ff"/>
                </a:solidFill>
                <a:latin typeface="Times New Roman"/>
              </a:rPr>
              <a:t>WATCH  TV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533520" y="1143000"/>
            <a:ext cx="4190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686160" y="1446840"/>
            <a:ext cx="1572120" cy="5814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WALK 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038480" y="432360"/>
            <a:ext cx="434340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PLAY VOLLEYBALL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228600" y="2285280"/>
            <a:ext cx="5867280" cy="581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c3300"/>
                </a:solidFill>
                <a:latin typeface="Times New Roman"/>
              </a:rPr>
              <a:t>LISTEN TO THE RADIO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1600200" y="3253320"/>
            <a:ext cx="41911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3300"/>
                </a:solidFill>
                <a:latin typeface="Times New Roman"/>
              </a:rPr>
              <a:t>PLAY THE PIANO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838080" y="4775760"/>
            <a:ext cx="4343400" cy="5814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WAIT FOR THE BUS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4952880" y="4038480"/>
            <a:ext cx="3886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3886200" y="5880960"/>
            <a:ext cx="4343400" cy="581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GO TO SCHOOL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304920" y="5653440"/>
            <a:ext cx="1828800" cy="581400"/>
          </a:xfrm>
          <a:prstGeom prst="rect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Times New Roman"/>
              </a:rPr>
              <a:t>RUN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6781680" y="3908520"/>
            <a:ext cx="1905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6249960" y="3351960"/>
            <a:ext cx="1468440" cy="5814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2819520" y="1371240"/>
            <a:ext cx="594360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99ff33"/>
                </a:solidFill>
                <a:latin typeface="Times New Roman"/>
              </a:rPr>
              <a:t>DO HOMEWORK</a:t>
            </a:r>
            <a:endParaRPr b="1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5304960" y="4829760"/>
            <a:ext cx="3687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00ff"/>
                </a:solidFill>
                <a:latin typeface="Times New Roman"/>
              </a:rPr>
              <a:t>REPAIR THE CAR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6629400" y="2544120"/>
            <a:ext cx="1752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ff"/>
                </a:solidFill>
                <a:latin typeface="Times New Roman"/>
              </a:rPr>
              <a:t>READ</a:t>
            </a:r>
            <a:endParaRPr b="1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6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61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Object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614600" cy="38098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457200" y="3959280"/>
            <a:ext cx="3657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ff00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ff00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ff00"/>
                </a:solidFill>
                <a:latin typeface="Times New Roman"/>
              </a:rPr>
              <a:t>READ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ff00"/>
                </a:solidFill>
                <a:latin typeface="Times New Roman"/>
              </a:rPr>
              <a:t>RU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ff00"/>
                </a:solidFill>
                <a:latin typeface="Times New Roman"/>
              </a:rPr>
              <a:t>PLAY THE VIOLI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ff00"/>
                </a:solidFill>
                <a:latin typeface="Times New Roman"/>
              </a:rPr>
              <a:t>PLAY FOOT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ff00"/>
                </a:solidFill>
                <a:latin typeface="Times New Roman"/>
              </a:rPr>
              <a:t>REPAIR THE CAR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4" name="AutoShape 38"/>
          <p:cNvSpPr/>
          <p:nvPr/>
        </p:nvSpPr>
        <p:spPr>
          <a:xfrm>
            <a:off x="5257800" y="2743200"/>
            <a:ext cx="3886200" cy="3657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6859440" y="3808800"/>
            <a:ext cx="62100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cc3300"/>
                </a:solidFill>
                <a:latin typeface="Times New Roman"/>
              </a:rPr>
              <a:t>H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705720" y="4418640"/>
            <a:ext cx="914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6019920" y="5790240"/>
            <a:ext cx="2438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THE VIOLIN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6477120" y="5104440"/>
            <a:ext cx="1590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PLAY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9" name="AutoShape 25"/>
          <p:cNvSpPr/>
          <p:nvPr/>
        </p:nvSpPr>
        <p:spPr>
          <a:xfrm>
            <a:off x="2438280" y="0"/>
            <a:ext cx="3886200" cy="3657600"/>
          </a:xfrm>
          <a:prstGeom prst="triangle">
            <a:avLst>
              <a:gd name="adj" fmla="val 50000"/>
            </a:avLst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3048120" y="2513520"/>
            <a:ext cx="26668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cc3300"/>
                </a:solidFill>
                <a:latin typeface="Times New Roman"/>
              </a:rPr>
              <a:t>MR. BENSO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3886200" y="1904040"/>
            <a:ext cx="914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32" name="Text Box 29"/>
          <p:cNvSpPr/>
          <p:nvPr/>
        </p:nvSpPr>
        <p:spPr>
          <a:xfrm>
            <a:off x="3581280" y="3047040"/>
            <a:ext cx="159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DOING 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33" name="Text Box 30"/>
          <p:cNvSpPr/>
          <p:nvPr/>
        </p:nvSpPr>
        <p:spPr>
          <a:xfrm>
            <a:off x="3657600" y="1370520"/>
            <a:ext cx="144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3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12"/>
          <p:cNvSpPr/>
          <p:nvPr/>
        </p:nvSpPr>
        <p:spPr>
          <a:xfrm rot="4549200">
            <a:off x="4745520" y="10080"/>
            <a:ext cx="3200400" cy="3192480"/>
          </a:xfrm>
          <a:prstGeom prst="parallelogram">
            <a:avLst>
              <a:gd name="adj" fmla="val 250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35" name="Object 2" descr=""/>
          <p:cNvPicPr/>
          <p:nvPr/>
        </p:nvPicPr>
        <p:blipFill>
          <a:blip r:embed="rId1"/>
          <a:stretch/>
        </p:blipFill>
        <p:spPr>
          <a:xfrm>
            <a:off x="0" y="304920"/>
            <a:ext cx="4038480" cy="31575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446400" y="3655080"/>
            <a:ext cx="31968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ALK AND TAL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LISTEN TO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MUSIC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READ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035320" y="1294200"/>
            <a:ext cx="2732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JANE AND MARY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4726080" y="684720"/>
            <a:ext cx="11455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6251760" y="684720"/>
            <a:ext cx="82224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AR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5716800" y="1980000"/>
            <a:ext cx="14425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DOING 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1" name="AutoShape 15"/>
          <p:cNvSpPr/>
          <p:nvPr/>
        </p:nvSpPr>
        <p:spPr>
          <a:xfrm rot="4549200">
            <a:off x="5482080" y="2823120"/>
            <a:ext cx="3200400" cy="3192480"/>
          </a:xfrm>
          <a:prstGeom prst="parallelogram">
            <a:avLst>
              <a:gd name="adj" fmla="val 25958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5488560" y="3427920"/>
            <a:ext cx="1043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THEY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6784920" y="3427920"/>
            <a:ext cx="82224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AR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5943600" y="4037400"/>
            <a:ext cx="21337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LISTEN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5943600" y="4723200"/>
            <a:ext cx="25909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TO MUSIC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9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Object 2" descr=""/>
          <p:cNvPicPr/>
          <p:nvPr/>
        </p:nvPicPr>
        <p:blipFill>
          <a:blip r:embed="rId1"/>
          <a:stretch/>
        </p:blipFill>
        <p:spPr>
          <a:xfrm>
            <a:off x="0" y="304920"/>
            <a:ext cx="6553080" cy="25686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2899080" y="3578400"/>
            <a:ext cx="31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READ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PLAY THE VIOLI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PLAY FOOT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REPAIR THE CAR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0" y="3200400"/>
            <a:ext cx="2819520" cy="3276720"/>
          </a:xfrm>
          <a:prstGeom prst="pentagon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460080" y="4951800"/>
            <a:ext cx="19227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MR. BLAC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839880" y="3732840"/>
            <a:ext cx="1145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1145160" y="4342320"/>
            <a:ext cx="468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730440" y="5599800"/>
            <a:ext cx="1366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DOING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3" name="AutoShape 10"/>
          <p:cNvSpPr/>
          <p:nvPr/>
        </p:nvSpPr>
        <p:spPr>
          <a:xfrm>
            <a:off x="6324480" y="3200400"/>
            <a:ext cx="2819520" cy="3276720"/>
          </a:xfrm>
          <a:prstGeom prst="pentagon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7392960" y="3656520"/>
            <a:ext cx="621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H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6956640" y="5637600"/>
            <a:ext cx="1634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THE CAR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6815520" y="4951800"/>
            <a:ext cx="1922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REPAIR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7461720" y="4266000"/>
            <a:ext cx="468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5"/>
          <p:cNvSpPr/>
          <p:nvPr/>
        </p:nvSpPr>
        <p:spPr>
          <a:xfrm>
            <a:off x="4952880" y="228600"/>
            <a:ext cx="3657600" cy="2133720"/>
          </a:xfrm>
          <a:prstGeom prst="hexagon">
            <a:avLst>
              <a:gd name="adj" fmla="val 42855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59" name="Object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3495600" cy="28400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4320" y="3655080"/>
            <a:ext cx="36234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LISTEN TO THE RADI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READ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RU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PLAY THE VIOLI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6095880" y="989640"/>
            <a:ext cx="135432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ENDY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5793120" y="379800"/>
            <a:ext cx="114552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7241040" y="379800"/>
            <a:ext cx="46872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5791320" y="1675440"/>
            <a:ext cx="19810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DOING 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5" name="AutoShape 9"/>
          <p:cNvSpPr/>
          <p:nvPr/>
        </p:nvSpPr>
        <p:spPr>
          <a:xfrm>
            <a:off x="5029200" y="2895480"/>
            <a:ext cx="3657600" cy="2133720"/>
          </a:xfrm>
          <a:prstGeom prst="hexagon">
            <a:avLst>
              <a:gd name="adj" fmla="val 42855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6095880" y="3047040"/>
            <a:ext cx="135432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SH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5488560" y="3656520"/>
            <a:ext cx="46872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6172200" y="3656520"/>
            <a:ext cx="19810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PLAYING 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5791320" y="4266000"/>
            <a:ext cx="213336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HE PIANO. 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3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7"/>
          <p:cNvSpPr/>
          <p:nvPr/>
        </p:nvSpPr>
        <p:spPr>
          <a:xfrm>
            <a:off x="3962520" y="228600"/>
            <a:ext cx="4724280" cy="1981080"/>
          </a:xfrm>
          <a:prstGeom prst="roundRect">
            <a:avLst>
              <a:gd name="adj" fmla="val 30528"/>
            </a:avLst>
          </a:prstGeom>
          <a:solidFill>
            <a:srgbClr val="f22f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71" name="Object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082680" cy="37339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31400" y="4206960"/>
            <a:ext cx="3623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LISTEN TO THE RADI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READ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PLAY THE VIOLI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4428000" y="989640"/>
            <a:ext cx="377892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LILLY, FRED AND LUCY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4643640" y="379800"/>
            <a:ext cx="1145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6718320" y="379800"/>
            <a:ext cx="82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AR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5489640" y="1599120"/>
            <a:ext cx="1442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DOING 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77" name="AutoShape 12"/>
          <p:cNvSpPr/>
          <p:nvPr/>
        </p:nvSpPr>
        <p:spPr>
          <a:xfrm>
            <a:off x="4038480" y="2590920"/>
            <a:ext cx="4724640" cy="1981080"/>
          </a:xfrm>
          <a:prstGeom prst="roundRect">
            <a:avLst>
              <a:gd name="adj" fmla="val 30528"/>
            </a:avLst>
          </a:prstGeom>
          <a:solidFill>
            <a:srgbClr val="f22f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5949000" y="2742120"/>
            <a:ext cx="104328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THEY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6251040" y="3275640"/>
            <a:ext cx="1602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WAIT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5032440" y="3275640"/>
            <a:ext cx="82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AR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5177880" y="3885120"/>
            <a:ext cx="228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FOR THE BUS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4" dur="3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5"/>
          <p:cNvSpPr/>
          <p:nvPr/>
        </p:nvSpPr>
        <p:spPr>
          <a:xfrm>
            <a:off x="5029200" y="228600"/>
            <a:ext cx="4114800" cy="2590920"/>
          </a:xfrm>
          <a:prstGeom prst="rtTriangl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83" name="Object 2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3444840" cy="31892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318600" y="3747240"/>
            <a:ext cx="31968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DO HOMEWOR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GO TO SCHOO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SLEEP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ALK AND TAL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COO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RU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5943600" y="1599120"/>
            <a:ext cx="1217520" cy="4597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JUN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5029200" y="1599120"/>
            <a:ext cx="768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5031000" y="989640"/>
            <a:ext cx="1145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5029200" y="2208600"/>
            <a:ext cx="2965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DOING 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5029200" y="3124080"/>
            <a:ext cx="4114800" cy="2590920"/>
          </a:xfrm>
          <a:prstGeom prst="rtTriangl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5029200" y="3808800"/>
            <a:ext cx="1143000" cy="4597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SH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029200" y="4494600"/>
            <a:ext cx="1523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5029200" y="5180400"/>
            <a:ext cx="274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SLEEPING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7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7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7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7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10"/>
          <p:cNvSpPr/>
          <p:nvPr/>
        </p:nvSpPr>
        <p:spPr>
          <a:xfrm>
            <a:off x="304920" y="2133720"/>
            <a:ext cx="6400800" cy="2057400"/>
          </a:xfrm>
          <a:prstGeom prst="foldedCorner">
            <a:avLst>
              <a:gd name="adj" fmla="val 12500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838080" y="2361240"/>
            <a:ext cx="175284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WHAT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4191120" y="2377080"/>
            <a:ext cx="228600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HE BIRD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1905120" y="3199680"/>
            <a:ext cx="274320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DOING?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2743200" y="2365920"/>
            <a:ext cx="1143000" cy="581400"/>
          </a:xfrm>
          <a:prstGeom prst="rect">
            <a:avLst/>
          </a:prstGeom>
          <a:solidFill>
            <a:srgbClr val="3333cc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ff33"/>
                </a:solidFill>
                <a:latin typeface="Times New Roman"/>
              </a:rPr>
              <a:t>IS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8" name="AutoShape 17"/>
          <p:cNvSpPr/>
          <p:nvPr/>
        </p:nvSpPr>
        <p:spPr>
          <a:xfrm>
            <a:off x="2438280" y="4572000"/>
            <a:ext cx="6400800" cy="2057400"/>
          </a:xfrm>
          <a:prstGeom prst="foldedCorner">
            <a:avLst>
              <a:gd name="adj" fmla="val 12500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3886200" y="4701240"/>
            <a:ext cx="121932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5410080" y="4727880"/>
            <a:ext cx="1143000" cy="581400"/>
          </a:xfrm>
          <a:prstGeom prst="rect">
            <a:avLst/>
          </a:prstGeom>
          <a:solidFill>
            <a:srgbClr val="3333cc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ff33"/>
                </a:solidFill>
                <a:latin typeface="Times New Roman"/>
              </a:rPr>
              <a:t>IS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01" name="Text Box 20"/>
          <p:cNvSpPr/>
          <p:nvPr/>
        </p:nvSpPr>
        <p:spPr>
          <a:xfrm>
            <a:off x="4038480" y="5539320"/>
            <a:ext cx="350532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FLYING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02" name="Object 23" descr=""/>
          <p:cNvPicPr/>
          <p:nvPr/>
        </p:nvPicPr>
        <p:blipFill>
          <a:blip r:embed="rId1"/>
          <a:stretch/>
        </p:blipFill>
        <p:spPr>
          <a:xfrm>
            <a:off x="9144000" y="0"/>
            <a:ext cx="2133720" cy="1973160"/>
          </a:xfrm>
          <a:prstGeom prst="rect">
            <a:avLst/>
          </a:prstGeom>
          <a:ln w="0">
            <a:noFill/>
          </a:ln>
        </p:spPr>
      </p:pic>
      <p:pic>
        <p:nvPicPr>
          <p:cNvPr id="203" name="Object 24" descr=""/>
          <p:cNvPicPr/>
          <p:nvPr/>
        </p:nvPicPr>
        <p:blipFill>
          <a:blip r:embed="rId2"/>
          <a:stretch/>
        </p:blipFill>
        <p:spPr>
          <a:xfrm>
            <a:off x="10820520" y="0"/>
            <a:ext cx="2133360" cy="1973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watching-tv"/>
          <p:cNvPicPr/>
          <p:nvPr/>
        </p:nvPicPr>
        <p:blipFill>
          <a:blip r:embed="rId1"/>
          <a:stretch/>
        </p:blipFill>
        <p:spPr>
          <a:xfrm>
            <a:off x="6810480" y="0"/>
            <a:ext cx="2333520" cy="2125800"/>
          </a:xfrm>
          <a:prstGeom prst="rect">
            <a:avLst/>
          </a:prstGeom>
          <a:ln w="0">
            <a:noFill/>
          </a:ln>
        </p:spPr>
      </p:pic>
      <p:pic>
        <p:nvPicPr>
          <p:cNvPr id="205" name="Object 2" descr=""/>
          <p:cNvPicPr/>
          <p:nvPr/>
        </p:nvPicPr>
        <p:blipFill>
          <a:blip r:embed="rId2"/>
          <a:stretch/>
        </p:blipFill>
        <p:spPr>
          <a:xfrm>
            <a:off x="0" y="0"/>
            <a:ext cx="2359080" cy="3009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ROLLER-BLADIG"/>
          <p:cNvPicPr/>
          <p:nvPr/>
        </p:nvPicPr>
        <p:blipFill>
          <a:blip r:embed="rId3"/>
          <a:stretch/>
        </p:blipFill>
        <p:spPr>
          <a:xfrm>
            <a:off x="7238880" y="3809880"/>
            <a:ext cx="1636920" cy="26672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6"/>
          <p:cNvSpPr/>
          <p:nvPr/>
        </p:nvSpPr>
        <p:spPr>
          <a:xfrm>
            <a:off x="0" y="248976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Times New Roman"/>
              </a:rPr>
              <a:t>JACK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6300720" y="2742120"/>
            <a:ext cx="289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00"/>
                </a:solidFill>
                <a:latin typeface="Times New Roman"/>
              </a:rPr>
              <a:t>ALICE AND BEN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5562720" y="502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0000"/>
                </a:solidFill>
                <a:latin typeface="Times New Roman"/>
              </a:rPr>
              <a:t>MANDY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grpSp>
        <p:nvGrpSpPr>
          <p:cNvPr id="210" name="Group 23"/>
          <p:cNvGrpSpPr/>
          <p:nvPr/>
        </p:nvGrpSpPr>
        <p:grpSpPr>
          <a:xfrm>
            <a:off x="2195640" y="281160"/>
            <a:ext cx="5181480" cy="6172200"/>
            <a:chOff x="2195640" y="281160"/>
            <a:chExt cx="5181480" cy="6172200"/>
          </a:xfrm>
        </p:grpSpPr>
        <p:sp>
          <p:nvSpPr>
            <p:cNvPr id="211" name="AutoShape 24"/>
            <p:cNvSpPr/>
            <p:nvPr/>
          </p:nvSpPr>
          <p:spPr>
            <a:xfrm>
              <a:off x="2195640" y="281160"/>
              <a:ext cx="5181480" cy="6172200"/>
            </a:xfrm>
            <a:prstGeom prst="irregularSeal2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12" name="Text Box 25"/>
            <p:cNvSpPr/>
            <p:nvPr/>
          </p:nvSpPr>
          <p:spPr>
            <a:xfrm>
              <a:off x="3676680" y="2109240"/>
              <a:ext cx="1961640" cy="703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99ff33"/>
                  </a:solidFill>
                  <a:latin typeface="Times New Roman"/>
                </a:rPr>
                <a:t>WHAT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13" name="Text Box 26"/>
            <p:cNvSpPr/>
            <p:nvPr/>
          </p:nvSpPr>
          <p:spPr>
            <a:xfrm>
              <a:off x="3840120" y="2795040"/>
              <a:ext cx="1569600" cy="703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99ff33"/>
                  </a:solidFill>
                  <a:latin typeface="Times New Roman"/>
                </a:rPr>
                <a:t>ARE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14" name="Text Box 27"/>
            <p:cNvSpPr/>
            <p:nvPr/>
          </p:nvSpPr>
          <p:spPr>
            <a:xfrm>
              <a:off x="3601800" y="3480840"/>
              <a:ext cx="1884240" cy="703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99ff33"/>
                  </a:solidFill>
                  <a:latin typeface="Times New Roman"/>
                </a:rPr>
                <a:t>THEY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15" name="Text Box 28"/>
            <p:cNvSpPr/>
            <p:nvPr/>
          </p:nvSpPr>
          <p:spPr>
            <a:xfrm>
              <a:off x="3357360" y="4090680"/>
              <a:ext cx="2433240" cy="703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99ff33"/>
                  </a:solidFill>
                  <a:latin typeface="Times New Roman"/>
                </a:rPr>
                <a:t>DOING?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8"/>
          <p:cNvSpPr/>
          <p:nvPr/>
        </p:nvSpPr>
        <p:spPr>
          <a:xfrm>
            <a:off x="3733920" y="5324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1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2359080" cy="30099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2209680" y="258840"/>
            <a:ext cx="18288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2133720" y="38052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Jack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3733920" y="304200"/>
            <a:ext cx="502920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playing football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ROLLER-BLADIG"/>
          <p:cNvPicPr/>
          <p:nvPr/>
        </p:nvPicPr>
        <p:blipFill>
          <a:blip r:embed="rId1"/>
          <a:stretch/>
        </p:blipFill>
        <p:spPr>
          <a:xfrm>
            <a:off x="7010280" y="3886200"/>
            <a:ext cx="1636920" cy="26668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9"/>
          <p:cNvSpPr/>
          <p:nvPr/>
        </p:nvSpPr>
        <p:spPr>
          <a:xfrm>
            <a:off x="304920" y="47304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6600"/>
                </a:solidFill>
                <a:latin typeface="Times New Roman"/>
              </a:rPr>
              <a:t>Mandy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2133720" y="487584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00"/>
                </a:solidFill>
                <a:latin typeface="Times New Roman"/>
              </a:rPr>
              <a:t>. . 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2362320" y="4730400"/>
            <a:ext cx="4572000" cy="82512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is roller-blading.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990720" y="1113840"/>
            <a:ext cx="7162560" cy="3750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0" spc="-1" strike="noStrike">
                <a:solidFill>
                  <a:srgbClr val="ffff00"/>
                </a:solidFill>
                <a:latin typeface="Times New Roman"/>
              </a:rPr>
              <a:t>DOING THINGS</a:t>
            </a:r>
            <a:endParaRPr b="1" lang="en-US" sz="12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watching-tv"/>
          <p:cNvPicPr/>
          <p:nvPr/>
        </p:nvPicPr>
        <p:blipFill>
          <a:blip r:embed="rId1"/>
          <a:stretch/>
        </p:blipFill>
        <p:spPr>
          <a:xfrm>
            <a:off x="6400800" y="304920"/>
            <a:ext cx="2333520" cy="21254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5"/>
          <p:cNvSpPr/>
          <p:nvPr/>
        </p:nvSpPr>
        <p:spPr>
          <a:xfrm>
            <a:off x="-228600" y="53280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6600"/>
                </a:solidFill>
                <a:latin typeface="Times New Roman"/>
              </a:rPr>
              <a:t>Ben and Alice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191120" y="57744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6600"/>
                </a:solidFill>
                <a:latin typeface="Times New Roman"/>
              </a:rPr>
              <a:t>. . .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3962520" y="532800"/>
            <a:ext cx="1828800" cy="82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6600"/>
                </a:solidFill>
                <a:latin typeface="Times New Roman"/>
              </a:rPr>
              <a:t>are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304920" y="1601280"/>
            <a:ext cx="4038480" cy="82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6600"/>
                </a:solidFill>
                <a:latin typeface="Times New Roman"/>
              </a:rPr>
              <a:t>watching TV.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16"/>
          <p:cNvGrpSpPr/>
          <p:nvPr/>
        </p:nvGrpSpPr>
        <p:grpSpPr>
          <a:xfrm>
            <a:off x="2286000" y="0"/>
            <a:ext cx="5181480" cy="6172200"/>
            <a:chOff x="2286000" y="0"/>
            <a:chExt cx="5181480" cy="6172200"/>
          </a:xfrm>
        </p:grpSpPr>
        <p:sp>
          <p:nvSpPr>
            <p:cNvPr id="231" name="AutoShape 3"/>
            <p:cNvSpPr/>
            <p:nvPr/>
          </p:nvSpPr>
          <p:spPr>
            <a:xfrm>
              <a:off x="2286000" y="0"/>
              <a:ext cx="5181480" cy="6172200"/>
            </a:xfrm>
            <a:prstGeom prst="irregularSeal2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3524400" y="2108880"/>
              <a:ext cx="1962000" cy="703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000066"/>
                  </a:solidFill>
                  <a:latin typeface="Times New Roman"/>
                </a:rPr>
                <a:t>WHAT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33" name="Text Box 12"/>
            <p:cNvSpPr/>
            <p:nvPr/>
          </p:nvSpPr>
          <p:spPr>
            <a:xfrm>
              <a:off x="3687840" y="2794680"/>
              <a:ext cx="1569960" cy="703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000066"/>
                  </a:solidFill>
                  <a:latin typeface="Times New Roman"/>
                </a:rPr>
                <a:t>ARE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34" name="Text Box 13"/>
            <p:cNvSpPr/>
            <p:nvPr/>
          </p:nvSpPr>
          <p:spPr>
            <a:xfrm>
              <a:off x="3449520" y="3480480"/>
              <a:ext cx="1884600" cy="703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000066"/>
                  </a:solidFill>
                  <a:latin typeface="Times New Roman"/>
                </a:rPr>
                <a:t>THEY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3205080" y="4090320"/>
              <a:ext cx="2433600" cy="703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000066"/>
                  </a:solidFill>
                  <a:latin typeface="Times New Roman"/>
                </a:rPr>
                <a:t>DOING?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</p:grpSp>
      <p:pic>
        <p:nvPicPr>
          <p:cNvPr id="236" name="Object 17" descr=""/>
          <p:cNvPicPr/>
          <p:nvPr/>
        </p:nvPicPr>
        <p:blipFill>
          <a:blip r:embed="rId1"/>
          <a:stretch/>
        </p:blipFill>
        <p:spPr>
          <a:xfrm>
            <a:off x="0" y="0"/>
            <a:ext cx="1533600" cy="1801800"/>
          </a:xfrm>
          <a:prstGeom prst="rect">
            <a:avLst/>
          </a:prstGeom>
          <a:ln w="0">
            <a:noFill/>
          </a:ln>
        </p:spPr>
      </p:pic>
      <p:pic>
        <p:nvPicPr>
          <p:cNvPr id="237" name="Object 18" descr=""/>
          <p:cNvPicPr/>
          <p:nvPr/>
        </p:nvPicPr>
        <p:blipFill>
          <a:blip r:embed="rId2"/>
          <a:stretch/>
        </p:blipFill>
        <p:spPr>
          <a:xfrm>
            <a:off x="0" y="4511520"/>
            <a:ext cx="3062160" cy="2346480"/>
          </a:xfrm>
          <a:prstGeom prst="rect">
            <a:avLst/>
          </a:prstGeom>
          <a:ln w="0">
            <a:noFill/>
          </a:ln>
        </p:spPr>
      </p:pic>
      <p:pic>
        <p:nvPicPr>
          <p:cNvPr id="238" name="Object 19" descr=""/>
          <p:cNvPicPr/>
          <p:nvPr/>
        </p:nvPicPr>
        <p:blipFill>
          <a:blip r:embed="rId3"/>
          <a:stretch/>
        </p:blipFill>
        <p:spPr>
          <a:xfrm>
            <a:off x="7086600" y="0"/>
            <a:ext cx="1835280" cy="1862280"/>
          </a:xfrm>
          <a:prstGeom prst="rect">
            <a:avLst/>
          </a:prstGeom>
          <a:ln w="0">
            <a:noFill/>
          </a:ln>
        </p:spPr>
      </p:pic>
      <p:pic>
        <p:nvPicPr>
          <p:cNvPr id="239" name="Object 20" descr=""/>
          <p:cNvPicPr/>
          <p:nvPr/>
        </p:nvPicPr>
        <p:blipFill>
          <a:blip r:embed="rId4"/>
          <a:stretch/>
        </p:blipFill>
        <p:spPr>
          <a:xfrm>
            <a:off x="6507000" y="3962520"/>
            <a:ext cx="2637000" cy="28954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21"/>
          <p:cNvSpPr/>
          <p:nvPr/>
        </p:nvSpPr>
        <p:spPr>
          <a:xfrm>
            <a:off x="228600" y="21103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0000"/>
                </a:solidFill>
                <a:latin typeface="Times New Roman"/>
              </a:rPr>
              <a:t>ROY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1" name="Text Box 22"/>
          <p:cNvSpPr/>
          <p:nvPr/>
        </p:nvSpPr>
        <p:spPr>
          <a:xfrm>
            <a:off x="7467480" y="179136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00"/>
                </a:solidFill>
                <a:latin typeface="Times New Roman"/>
              </a:rPr>
              <a:t>MRS. BELL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2" name="Text Box 23"/>
          <p:cNvSpPr/>
          <p:nvPr/>
        </p:nvSpPr>
        <p:spPr>
          <a:xfrm>
            <a:off x="1981080" y="52711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6600"/>
                </a:solidFill>
                <a:latin typeface="Times New Roman"/>
              </a:rPr>
              <a:t>JOE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3" name="Text Box 24"/>
          <p:cNvSpPr/>
          <p:nvPr/>
        </p:nvSpPr>
        <p:spPr>
          <a:xfrm>
            <a:off x="4419720" y="5790240"/>
            <a:ext cx="19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6600"/>
                </a:solidFill>
                <a:latin typeface="Times New Roman"/>
              </a:rPr>
              <a:t>MR. FOSTER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Object 9" descr=""/>
          <p:cNvPicPr/>
          <p:nvPr/>
        </p:nvPicPr>
        <p:blipFill>
          <a:blip r:embed="rId2"/>
          <a:stretch/>
        </p:blipFill>
        <p:spPr>
          <a:xfrm>
            <a:off x="0" y="4511520"/>
            <a:ext cx="3062160" cy="2346480"/>
          </a:xfrm>
          <a:prstGeom prst="rect">
            <a:avLst/>
          </a:prstGeom>
          <a:ln w="0">
            <a:noFill/>
          </a:ln>
        </p:spPr>
      </p:pic>
      <p:pic>
        <p:nvPicPr>
          <p:cNvPr id="245" name="Object 10" descr=""/>
          <p:cNvPicPr/>
          <p:nvPr/>
        </p:nvPicPr>
        <p:blipFill>
          <a:blip r:embed="rId3"/>
          <a:stretch/>
        </p:blipFill>
        <p:spPr>
          <a:xfrm>
            <a:off x="7086600" y="0"/>
            <a:ext cx="1835280" cy="186228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13"/>
          <p:cNvSpPr/>
          <p:nvPr/>
        </p:nvSpPr>
        <p:spPr>
          <a:xfrm>
            <a:off x="7467480" y="179136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00"/>
                </a:solidFill>
                <a:latin typeface="Times New Roman"/>
              </a:rPr>
              <a:t>MRS. BELL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7" name="Text Box 14"/>
          <p:cNvSpPr/>
          <p:nvPr/>
        </p:nvSpPr>
        <p:spPr>
          <a:xfrm>
            <a:off x="1981080" y="52711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6600"/>
                </a:solidFill>
                <a:latin typeface="Times New Roman"/>
              </a:rPr>
              <a:t>JOE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28600" y="42480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996600"/>
                </a:solidFill>
                <a:latin typeface="Times New Roman"/>
              </a:rPr>
              <a:t>Mrs. Bell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3048120" y="45684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99ff33"/>
                </a:solidFill>
                <a:latin typeface="Times New Roman"/>
              </a:rPr>
              <a:t>. . .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3048120" y="456840"/>
            <a:ext cx="2971800" cy="825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996600"/>
                </a:solidFill>
                <a:latin typeface="Times New Roman"/>
              </a:rPr>
              <a:t>is talking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1066680" y="156780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996600"/>
                </a:solidFill>
                <a:latin typeface="Times New Roman"/>
              </a:rPr>
              <a:t>on the phone.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3962520" y="370152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6699"/>
                </a:solidFill>
                <a:latin typeface="Times New Roman"/>
              </a:rPr>
              <a:t>Joe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5105520" y="373320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6699"/>
                </a:solidFill>
                <a:latin typeface="Times New Roman"/>
              </a:rPr>
              <a:t>. . . 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5105520" y="3657240"/>
            <a:ext cx="3657600" cy="825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6699"/>
                </a:solidFill>
                <a:latin typeface="Times New Roman"/>
              </a:rPr>
              <a:t>is skiing.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Object 8" descr=""/>
          <p:cNvPicPr/>
          <p:nvPr/>
        </p:nvPicPr>
        <p:blipFill>
          <a:blip r:embed="rId2"/>
          <a:stretch/>
        </p:blipFill>
        <p:spPr>
          <a:xfrm>
            <a:off x="0" y="0"/>
            <a:ext cx="1533600" cy="1801800"/>
          </a:xfrm>
          <a:prstGeom prst="rect">
            <a:avLst/>
          </a:prstGeom>
          <a:ln w="0">
            <a:noFill/>
          </a:ln>
        </p:spPr>
      </p:pic>
      <p:pic>
        <p:nvPicPr>
          <p:cNvPr id="256" name="Object 11" descr=""/>
          <p:cNvPicPr/>
          <p:nvPr/>
        </p:nvPicPr>
        <p:blipFill>
          <a:blip r:embed="rId3"/>
          <a:stretch/>
        </p:blipFill>
        <p:spPr>
          <a:xfrm>
            <a:off x="6507000" y="3962520"/>
            <a:ext cx="2637000" cy="289548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12"/>
          <p:cNvSpPr/>
          <p:nvPr/>
        </p:nvSpPr>
        <p:spPr>
          <a:xfrm>
            <a:off x="228600" y="21103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0000"/>
                </a:solidFill>
                <a:latin typeface="Times New Roman"/>
              </a:rPr>
              <a:t>ROY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4419720" y="5790240"/>
            <a:ext cx="19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6600"/>
                </a:solidFill>
                <a:latin typeface="Times New Roman"/>
              </a:rPr>
              <a:t>MR. FOSTER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1905120" y="88200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0000"/>
                </a:solidFill>
                <a:latin typeface="Times New Roman"/>
              </a:rPr>
              <a:t>Roy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3657600" y="91404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0000"/>
                </a:solidFill>
                <a:latin typeface="Times New Roman"/>
              </a:rPr>
              <a:t>. . . 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1" name="Text Box 18"/>
          <p:cNvSpPr/>
          <p:nvPr/>
        </p:nvSpPr>
        <p:spPr>
          <a:xfrm>
            <a:off x="3733920" y="920160"/>
            <a:ext cx="3352680" cy="82512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0000"/>
                </a:solidFill>
                <a:latin typeface="Times New Roman"/>
              </a:rPr>
              <a:t>is studying</a:t>
            </a: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2" name="Text Box 19"/>
          <p:cNvSpPr/>
          <p:nvPr/>
        </p:nvSpPr>
        <p:spPr>
          <a:xfrm>
            <a:off x="304920" y="388584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0000"/>
                </a:solidFill>
                <a:latin typeface="Times New Roman"/>
              </a:rPr>
              <a:t>Mr. Foster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3" name="Text Box 20"/>
          <p:cNvSpPr/>
          <p:nvPr/>
        </p:nvSpPr>
        <p:spPr>
          <a:xfrm>
            <a:off x="3657600" y="39682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0000"/>
                </a:solidFill>
                <a:latin typeface="Times New Roman"/>
              </a:rPr>
              <a:t>. . . 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4" name="Text Box 21"/>
          <p:cNvSpPr/>
          <p:nvPr/>
        </p:nvSpPr>
        <p:spPr>
          <a:xfrm>
            <a:off x="3733920" y="3968280"/>
            <a:ext cx="2743200" cy="82512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0000"/>
                </a:solidFill>
                <a:latin typeface="Times New Roman"/>
              </a:rPr>
              <a:t>is fishing.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0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0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304920" y="2278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IS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l-SI" sz="3200" spc="-1" strike="noStrike">
                <a:solidFill>
                  <a:srgbClr val="006600"/>
                </a:solidFill>
                <a:latin typeface="Times New Roman"/>
              </a:rPr>
              <a:t>AM</a:t>
            </a:r>
            <a:r>
              <a:rPr b="1" lang="sl-SI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sl-SI" sz="3200" spc="-1" strike="noStrike">
                <a:solidFill>
                  <a:srgbClr val="d60093"/>
                </a:solidFill>
                <a:latin typeface="Times New Roman"/>
              </a:rPr>
              <a:t>ARE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0" y="1341360"/>
            <a:ext cx="84582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I                  listening to the teacher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Sam                  playing with a toy-car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Julie and Ann               writing a note to Fred. 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My dog                 waiting for me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Harry and John                reading a magazine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My parents                 working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Mrs. Green                   cooking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1009800" y="1424520"/>
            <a:ext cx="89532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m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2819520" y="5028480"/>
            <a:ext cx="91440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c0099"/>
                </a:solidFill>
                <a:latin typeface="Times New Roman"/>
              </a:rPr>
              <a:t>are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1371600" y="2132640"/>
            <a:ext cx="106524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0" name="Rectangle 13"/>
          <p:cNvSpPr/>
          <p:nvPr/>
        </p:nvSpPr>
        <p:spPr>
          <a:xfrm>
            <a:off x="2057400" y="3504240"/>
            <a:ext cx="83808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1" name="Rectangle 14"/>
          <p:cNvSpPr/>
          <p:nvPr/>
        </p:nvSpPr>
        <p:spPr>
          <a:xfrm>
            <a:off x="3353400" y="4266360"/>
            <a:ext cx="74772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c0099"/>
                </a:solidFill>
                <a:latin typeface="Times New Roman"/>
              </a:rPr>
              <a:t>are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2" name="Rectangle 15"/>
          <p:cNvSpPr/>
          <p:nvPr/>
        </p:nvSpPr>
        <p:spPr>
          <a:xfrm>
            <a:off x="3124800" y="2818440"/>
            <a:ext cx="74772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c0099"/>
                </a:solidFill>
                <a:latin typeface="Times New Roman"/>
              </a:rPr>
              <a:t>are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3" name="Rectangle 16"/>
          <p:cNvSpPr/>
          <p:nvPr/>
        </p:nvSpPr>
        <p:spPr>
          <a:xfrm>
            <a:off x="2819520" y="5790240"/>
            <a:ext cx="91440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1523880" y="4564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c0099"/>
                </a:solidFill>
                <a:latin typeface="Times New Roman"/>
              </a:rPr>
              <a:t>MAKE SENTENCES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0" y="1108080"/>
            <a:ext cx="838188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John                                 . (SWIM)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Mary                                a letter. (WRITE)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Julie and Sue                                 the kitchen. (CLEAN)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Gary                               a shower. (HAVE)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Jill                                  up. (WASH)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We                                    . (STUDY)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he phone                                    . (RING)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1523880" y="1082520"/>
            <a:ext cx="320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1523880" y="1142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 swimming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1600200" y="190404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 writing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666880" y="258984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are cleaning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295280" y="380916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 having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914400" y="45712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 washing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1295280" y="52570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are studying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2438280" y="601884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 ringing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4"/>
          <p:cNvSpPr/>
          <p:nvPr/>
        </p:nvSpPr>
        <p:spPr>
          <a:xfrm>
            <a:off x="0" y="1767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000" spc="-1" strike="noStrike">
                <a:solidFill>
                  <a:srgbClr val="cc9900"/>
                </a:solidFill>
                <a:latin typeface="American Classic"/>
              </a:rPr>
              <a:t>Are you listening?</a:t>
            </a:r>
            <a:endParaRPr b="1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0" y="237744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000" spc="-1" strike="noStrike">
                <a:solidFill>
                  <a:srgbClr val="996633"/>
                </a:solidFill>
                <a:latin typeface="American Classic"/>
              </a:rPr>
              <a:t>Are you studying?</a:t>
            </a:r>
            <a:endParaRPr b="1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0" y="374904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000" spc="-1" strike="noStrike">
                <a:solidFill>
                  <a:srgbClr val="800000"/>
                </a:solidFill>
                <a:latin typeface="American Classic"/>
              </a:rPr>
              <a:t>Is the bell ringing?</a:t>
            </a:r>
            <a:endParaRPr b="1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0" y="306324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000" spc="-1" strike="noStrike">
                <a:solidFill>
                  <a:srgbClr val="cc3300"/>
                </a:solidFill>
                <a:latin typeface="American Classic"/>
              </a:rPr>
              <a:t>Is your teacher talking?</a:t>
            </a:r>
            <a:endParaRPr b="1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0" y="396360"/>
            <a:ext cx="9144000" cy="8251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800" spc="-1" strike="noStrike">
                <a:solidFill>
                  <a:srgbClr val="ff0000"/>
                </a:solidFill>
                <a:latin typeface="Times New Roman"/>
              </a:rPr>
              <a:t>And what are you doing now?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nodeType="clickEffect" fill="hold">
                      <p:stCondLst>
                        <p:cond delay="0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2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25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-685800" y="1065960"/>
            <a:ext cx="106678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9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500" spc="-1" strike="noStrike">
                <a:solidFill>
                  <a:srgbClr val="99ff33"/>
                </a:solidFill>
                <a:latin typeface="Times New Roman"/>
              </a:rPr>
              <a:t>NOW</a:t>
            </a:r>
            <a:endParaRPr b="1" lang="en-US" sz="305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0" y="304920"/>
          <a:ext cx="5135400" cy="65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513540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Text Box 5"/>
          <p:cNvSpPr/>
          <p:nvPr/>
        </p:nvSpPr>
        <p:spPr>
          <a:xfrm>
            <a:off x="4191120" y="304920"/>
            <a:ext cx="472428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WHAT IS BEN DOING?</a:t>
            </a:r>
            <a:endParaRPr b="1" lang="en-US" sz="2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727440" y="2819520"/>
            <a:ext cx="84456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66ff"/>
                </a:solidFill>
                <a:latin typeface="Times New Roman"/>
              </a:rPr>
              <a:t>HE</a:t>
            </a:r>
            <a:r>
              <a:rPr b="1" lang="sl-SI" sz="2400" spc="-1" strike="noStrike">
                <a:solidFill>
                  <a:srgbClr val="99cc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495680" y="2819520"/>
            <a:ext cx="464832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66ff"/>
                </a:solidFill>
                <a:latin typeface="Times New Roman"/>
              </a:rPr>
              <a:t>IS PLAYING FOOTBALL.</a:t>
            </a:r>
            <a:endParaRPr b="1" lang="en-US" sz="2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5410080" y="4210200"/>
            <a:ext cx="373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800000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800000"/>
                </a:solidFill>
                <a:latin typeface="Times New Roman"/>
              </a:rPr>
              <a:t>RU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800000"/>
                </a:solidFill>
                <a:latin typeface="Times New Roman"/>
              </a:rPr>
              <a:t>PLAY THE VIOLI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800000"/>
                </a:solidFill>
                <a:latin typeface="Times New Roman"/>
              </a:rPr>
              <a:t>PLAY FOOT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800000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800000"/>
                </a:solidFill>
                <a:latin typeface="Times New Roman"/>
              </a:rPr>
              <a:t>GO TO SCHOO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800000"/>
                </a:solidFill>
                <a:latin typeface="Times New Roman"/>
              </a:rPr>
              <a:t>REPAIR THE CAR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1"/>
          <p:cNvSpPr/>
          <p:nvPr/>
        </p:nvSpPr>
        <p:spPr>
          <a:xfrm>
            <a:off x="2895480" y="1981080"/>
            <a:ext cx="6248520" cy="17528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5" name="Rectangle 20"/>
          <p:cNvSpPr/>
          <p:nvPr/>
        </p:nvSpPr>
        <p:spPr>
          <a:xfrm>
            <a:off x="2895480" y="228600"/>
            <a:ext cx="6248520" cy="16765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5257800" y="2895480"/>
            <a:ext cx="32767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8000"/>
                </a:solidFill>
                <a:latin typeface="Times New Roman"/>
              </a:rPr>
              <a:t>VOLLEYBALL 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4267080" y="2209680"/>
            <a:ext cx="2286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8000"/>
                </a:solidFill>
                <a:latin typeface="Times New Roman"/>
              </a:rPr>
              <a:t>ARE PLAY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4572000" y="609480"/>
            <a:ext cx="1447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8000"/>
                </a:solidFill>
                <a:latin typeface="Times New Roman"/>
              </a:rPr>
              <a:t>AR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2971800" y="1219320"/>
            <a:ext cx="198108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8000"/>
                </a:solidFill>
                <a:latin typeface="Times New Roman"/>
              </a:rPr>
              <a:t>DOING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2438280" cy="23558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2971800" y="609480"/>
            <a:ext cx="144792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WHAT</a:t>
            </a:r>
            <a:endParaRPr b="1" lang="en-US" sz="2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6248520" y="609480"/>
            <a:ext cx="289548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LUCY AND ROY</a:t>
            </a:r>
            <a:endParaRPr b="1" lang="en-US" sz="2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380880" y="3886200"/>
            <a:ext cx="3353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imes New Roman"/>
              </a:rPr>
              <a:t>DO HOMEWOR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imes New Roman"/>
              </a:rPr>
              <a:t>WALK AND TAL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imes New Roman"/>
              </a:rPr>
              <a:t>LISTEN TO THE RADI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2975760" y="2208960"/>
            <a:ext cx="112572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THEY</a:t>
            </a:r>
            <a:endParaRPr b="1" lang="en-US" sz="28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6" dur="3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0"/>
          <p:cNvSpPr/>
          <p:nvPr/>
        </p:nvSpPr>
        <p:spPr>
          <a:xfrm>
            <a:off x="3200400" y="2133720"/>
            <a:ext cx="5943600" cy="1447560"/>
          </a:xfrm>
          <a:custGeom>
            <a:avLst/>
            <a:gdLst>
              <a:gd name="textAreaLeft" fmla="*/ 170280 w 5943600"/>
              <a:gd name="textAreaRight" fmla="*/ 5773320 w 5943600"/>
              <a:gd name="textAreaTop" fmla="*/ 170280 h 1447560"/>
              <a:gd name="textAreaBottom" fmla="*/ 1277280 h 1447560"/>
            </a:gdLst>
            <a:ahLst/>
            <a:rect l="textAreaLeft" t="textAreaTop" r="textAreaRight" b="textAreaBottom"/>
            <a:pathLst>
              <a:path w="8867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5072" y="21600"/>
                </a:lnTo>
                <a:arcTo wR="3600" hR="3600" stAng="10800000" swAng="5400000"/>
                <a:lnTo>
                  <a:pt x="88672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76" name="AutoShape 19"/>
          <p:cNvSpPr/>
          <p:nvPr/>
        </p:nvSpPr>
        <p:spPr>
          <a:xfrm>
            <a:off x="2590920" y="380880"/>
            <a:ext cx="5943600" cy="1447920"/>
          </a:xfrm>
          <a:custGeom>
            <a:avLst/>
            <a:gdLst>
              <a:gd name="textAreaLeft" fmla="*/ 170640 w 5943600"/>
              <a:gd name="textAreaRight" fmla="*/ 5772960 w 5943600"/>
              <a:gd name="textAreaTop" fmla="*/ 170640 h 1447920"/>
              <a:gd name="textAreaBottom" fmla="*/ 1277280 h 1447920"/>
            </a:gdLst>
            <a:ahLst/>
            <a:rect l="textAreaLeft" t="textAreaTop" r="textAreaRight" b="textAreaBottom"/>
            <a:pathLst>
              <a:path w="8865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5050" y="21600"/>
                </a:lnTo>
                <a:arcTo wR="3600" hR="3600" stAng="10800000" swAng="5400000"/>
                <a:lnTo>
                  <a:pt x="88650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228600" y="0"/>
            <a:ext cx="1952640" cy="41148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4320" y="4206960"/>
            <a:ext cx="3623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LISTEN TO THE RADI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RU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PLAY THE VIOLI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4726440" y="913320"/>
            <a:ext cx="1907280" cy="4597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MR. WHIT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821320" y="913320"/>
            <a:ext cx="1145520" cy="4597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4116960" y="913320"/>
            <a:ext cx="46872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6859800" y="913320"/>
            <a:ext cx="136656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DOING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3809880" y="2589840"/>
            <a:ext cx="62388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H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955040" y="2589840"/>
            <a:ext cx="468720" cy="4597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5867280" y="2589840"/>
            <a:ext cx="17528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RUNNING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18"/>
          <p:cNvSpPr/>
          <p:nvPr/>
        </p:nvSpPr>
        <p:spPr>
          <a:xfrm>
            <a:off x="2819520" y="2438280"/>
            <a:ext cx="6095880" cy="1905120"/>
          </a:xfrm>
          <a:prstGeom prst="flowChartPunchedTap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2306880" cy="31244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4320" y="3959280"/>
            <a:ext cx="3623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DO THE HOOVER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DO HOMEWOR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JOG AND TAL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LISTEN TO THE RADI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89" name="AutoShape 15"/>
          <p:cNvSpPr/>
          <p:nvPr/>
        </p:nvSpPr>
        <p:spPr>
          <a:xfrm>
            <a:off x="2819520" y="228600"/>
            <a:ext cx="6095880" cy="1905120"/>
          </a:xfrm>
          <a:prstGeom prst="flowChartPunchedTap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grpSp>
        <p:nvGrpSpPr>
          <p:cNvPr id="90" name="Group 16"/>
          <p:cNvGrpSpPr/>
          <p:nvPr/>
        </p:nvGrpSpPr>
        <p:grpSpPr>
          <a:xfrm>
            <a:off x="2897280" y="761040"/>
            <a:ext cx="5844240" cy="1145520"/>
            <a:chOff x="2897280" y="761040"/>
            <a:chExt cx="5844240" cy="1145520"/>
          </a:xfrm>
        </p:grpSpPr>
        <p:sp>
          <p:nvSpPr>
            <p:cNvPr id="91" name="Text Box 4"/>
            <p:cNvSpPr/>
            <p:nvPr/>
          </p:nvSpPr>
          <p:spPr>
            <a:xfrm>
              <a:off x="5188320" y="761040"/>
              <a:ext cx="3553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ff0066"/>
                  </a:solidFill>
                  <a:latin typeface="Times New Roman"/>
                </a:rPr>
                <a:t>MR. AND MRS. DAVIES</a:t>
              </a:r>
              <a:endParaRPr b="1" lang="en-US" sz="24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92" name="Text Box 5"/>
            <p:cNvSpPr/>
            <p:nvPr/>
          </p:nvSpPr>
          <p:spPr>
            <a:xfrm>
              <a:off x="2897280" y="761040"/>
              <a:ext cx="11455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ff0000"/>
                  </a:solidFill>
                  <a:latin typeface="Times New Roman"/>
                </a:rPr>
                <a:t>WHAT</a:t>
              </a:r>
              <a:endParaRPr b="1" lang="en-US" sz="24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93" name="Text Box 6"/>
            <p:cNvSpPr/>
            <p:nvPr/>
          </p:nvSpPr>
          <p:spPr>
            <a:xfrm>
              <a:off x="4194360" y="761040"/>
              <a:ext cx="8222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0000ff"/>
                  </a:solidFill>
                  <a:latin typeface="Times New Roman"/>
                </a:rPr>
                <a:t>ARE</a:t>
              </a:r>
              <a:endParaRPr b="1" lang="en-US" sz="24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94" name="Text Box 7"/>
            <p:cNvSpPr/>
            <p:nvPr/>
          </p:nvSpPr>
          <p:spPr>
            <a:xfrm>
              <a:off x="3657600" y="1446840"/>
              <a:ext cx="13701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ff0000"/>
                  </a:solidFill>
                  <a:latin typeface="Times New Roman"/>
                </a:rPr>
                <a:t>DOING?</a:t>
              </a:r>
              <a:endParaRPr b="1" lang="en-US" sz="24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</p:grpSp>
      <p:sp>
        <p:nvSpPr>
          <p:cNvPr id="95" name="Text Box 8"/>
          <p:cNvSpPr/>
          <p:nvPr/>
        </p:nvSpPr>
        <p:spPr>
          <a:xfrm>
            <a:off x="3050280" y="2894400"/>
            <a:ext cx="1043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THEY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4346640" y="2894400"/>
            <a:ext cx="8222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AR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4094640" y="3427920"/>
            <a:ext cx="3948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JOGGING AND TALKING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" dur="3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Oval 15"/>
          <p:cNvSpPr/>
          <p:nvPr/>
        </p:nvSpPr>
        <p:spPr>
          <a:xfrm>
            <a:off x="3429000" y="1905120"/>
            <a:ext cx="5715000" cy="1600200"/>
          </a:xfrm>
          <a:prstGeom prst="ellipse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99" name="Oval 13"/>
          <p:cNvSpPr/>
          <p:nvPr/>
        </p:nvSpPr>
        <p:spPr>
          <a:xfrm>
            <a:off x="3429000" y="0"/>
            <a:ext cx="5715000" cy="16002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2386080" cy="33512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232200" y="3807000"/>
            <a:ext cx="31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RU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PLAY THE VIOLI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PLAY FOOT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5888520" y="608400"/>
            <a:ext cx="13467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MANDY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618000" y="608400"/>
            <a:ext cx="118260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5107680" y="608400"/>
            <a:ext cx="4687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7545240" y="608400"/>
            <a:ext cx="13701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DOING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4497480" y="2513520"/>
            <a:ext cx="7902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SH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022080" y="2513520"/>
            <a:ext cx="4687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6937920" y="2513520"/>
            <a:ext cx="16941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READING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3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200400" y="380880"/>
            <a:ext cx="5715000" cy="990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10" name="Object 2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3006720" cy="24620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0" y="3655080"/>
            <a:ext cx="4267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DO THE HOOVER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DO HOMEWOR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GO TO SCHOO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ALK AND TAL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LISTEN TO THE RADI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641200" y="608400"/>
            <a:ext cx="976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RIC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735720" y="608400"/>
            <a:ext cx="114552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031360" y="608400"/>
            <a:ext cx="46872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6745680" y="608400"/>
            <a:ext cx="144252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DOING 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3200400" y="2057400"/>
            <a:ext cx="5715000" cy="1295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3582720" y="2284920"/>
            <a:ext cx="621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H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4345560" y="2284920"/>
            <a:ext cx="46872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4876920" y="2284920"/>
            <a:ext cx="121752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DO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6173640" y="2284920"/>
            <a:ext cx="70668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H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3581280" y="2818440"/>
            <a:ext cx="222300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HOMEWORK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5T18:59:38Z</dcterms:created>
  <dc:creator>Danica</dc:creator>
  <dc:description/>
  <dc:language>en-US</dc:language>
  <cp:lastModifiedBy>Dan Humm Soriano</cp:lastModifiedBy>
  <dcterms:modified xsi:type="dcterms:W3CDTF">2020-10-05T09:59:29Z</dcterms:modified>
  <cp:revision>10</cp:revision>
  <dc:subject/>
  <dc:title>No Slide Title</dc:title>
</cp:coreProperties>
</file>