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B804-1587-41D5-A5B2-847D617C48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1109-A166-4069-8AA2-A6670430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07B8-3A55-42FB-BC26-54E1ADAA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3D8F-1AF0-4347-A264-6C63F83EA1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F742-FC40-4629-87E2-D519226A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2E450-4A93-4AF5-9323-31966E06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D652-C4E6-423D-BE87-09C09B4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9F66-6DE0-4230-99F6-D802B042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BEF7-E218-4992-9DAB-715FD692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4F83-1FA8-4C9C-87F1-2E1F3272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DCD4-3514-40A6-A504-8F3E8360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F333-3B72-47A0-A9E9-6D57B790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D771-61FA-420C-92F7-077404FC1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Onestopclil PowerPoint Masterslide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werPoint Masterslide with Log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owerPoint Masterslide with 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restless Earth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What words do you already know to do with volcan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and the worksheet, match the halve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 volcano is formed.  Work in pairs.  Take turns, one talks the other listens, then swap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6:19Z</dcterms:modified>
  <cp:revision>43</cp:revision>
  <dc:subject/>
  <dc:title>Slide 0</dc:title>
</cp:coreProperties>
</file>