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8835-4813-4C72-96C6-971432E48B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635A-BFE0-44C0-B4AC-37F3FF9B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B3B4-9621-4D3E-AA63-D8AF741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E043-6624-4BA2-AB0E-60BC856AE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FAB7-299B-49D1-BCD0-0BCBE74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C168-B66A-4B4D-9415-55351D7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C269-AFEB-4C21-97F2-89B29C7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4A4F-0281-4E86-9DE1-3BCF76AA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66B5-61F3-4952-8918-0C7869DB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922B-7791-4C02-9B05-BBEE2EE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2E5C-9A15-4864-BC4F-78F2CAC1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0CC8-FAA4-41A4-9653-FE24B409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0E11-793C-4CA7-A404-583A1FAD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Onestopclil PowerPoint Masterslide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werPoint Masterslide with Log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owerPoint Masterslide with 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restless Eart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What words do you already know to do with volcan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and the worksheet, match the halve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 volcano is formed.  Work in pairs.  Take turns, one talks the other listens, then swap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6:19Z</dcterms:modified>
  <cp:revision>43</cp:revision>
  <dc:subject/>
  <dc:title>Slide 0</dc:title>
</cp:coreProperties>
</file>